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52A8-11B8-489E-B25E-892068FE4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good place to emphasize that the scope of  CLASP activities is limited to:  appliances, equipment and lighting produ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1560" y="71136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33120" y="4352760"/>
            <a:ext cx="4978440" cy="95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 both for short term savings, and even better for longer term market trans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&amp;D on distributed resources and area-specific c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1560" y="71136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33120" y="4352760"/>
            <a:ext cx="4978440" cy="14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 is public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C is air condit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PS is mandatory energy performance standards, or ee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1560" y="71136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33120" y="4352400"/>
            <a:ext cx="49784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ressive effects of mandatory energy efficiency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are the biggest success story, consistently giving the greatest results compared to invest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2012, program will have saved 400MW peak capacity, according to FA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1560" y="71136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33120" y="4352400"/>
            <a:ext cx="49784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ly a market transformation type of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41560" y="711360"/>
            <a:ext cx="4570200" cy="342720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33120" y="4352400"/>
            <a:ext cx="4978440" cy="7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always regulatory: government mandated or legislated, although not always within the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3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criptive standards are the most regulatory; they prescribe standards for particular equipment and models. Minimum performance standards specify the limit below which equipment is not acceptable.  Class-average offer more flexibility, since the standard is applied to the average of a class of similar equipment or equipment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4F8-E405-404B-A9A6-CD514BA5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D8F-FA84-4080-9672-488C346E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FE3B-E0B5-45A9-A2BF-C1C9C742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EF50-477B-425D-A0B5-890D24DB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47D-4F7B-4373-9805-956005B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E907-534F-4CDD-8DB1-324BF523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B97-F442-4F45-B44C-34D6C2CB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2F8-CB06-44AE-981D-B306DBC5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81080" y="228240"/>
            <a:ext cx="64008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0D0-D334-40EE-9C34-DC1D6E0A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B88-474C-4381-B6BA-B40D4B02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794-2713-4230-9E97-DEE7FEF8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49F-B610-44A6-A479-6C952E36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5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1710-55B0-4288-937D-DC79286F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762120"/>
            <a:ext cx="1600200" cy="609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Transformación de mercados de usos final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 Gilberto De M. Jannuz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 Energy Initi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as 4 de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Sellos de eficiencia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os de eficiência energética são selos informativos fixados nos produtos manufaturados indicando a performance energética do produto para fornecer aos consumidores as informações necessárias para que os mesmos possam comprar bem inform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do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pa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omente para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Passos no Desenvolvimento de Padrões e Sel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77" name=""/>
          <p:cNvSpPr/>
          <p:nvPr/>
        </p:nvSpPr>
        <p:spPr>
          <a:xfrm>
            <a:off x="879480" y="3429000"/>
            <a:ext cx="7772400" cy="0"/>
          </a:xfrm>
          <a:prstGeom prst="line">
            <a:avLst/>
          </a:prstGeom>
          <a:ln w="104760">
            <a:solidFill>
              <a:srgbClr val="00cc99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2280" y="3962520"/>
            <a:ext cx="190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ud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abi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58200" y="3962520"/>
            <a:ext cx="96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 S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0800" y="5181480"/>
            <a:ext cx="146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nt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12480" y="396252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rigató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90600" y="4952880"/>
            <a:ext cx="1595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dr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ínimo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ME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40800" y="4952880"/>
            <a:ext cx="19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abel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Fac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 T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09680" y="228600"/>
            <a:ext cx="6442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 MT Extra Bold"/>
              </a:rPr>
              <a:t>Padrões e Selos atuam juntos exercendo um grande impacto no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055520" y="2130480"/>
            <a:ext cx="7669800" cy="4729320"/>
            <a:chOff x="1055520" y="2130480"/>
            <a:chExt cx="7669800" cy="4729320"/>
          </a:xfrm>
        </p:grpSpPr>
        <p:grpSp>
          <p:nvGrpSpPr>
            <p:cNvPr id="86" name=""/>
            <p:cNvGrpSpPr/>
            <p:nvPr/>
          </p:nvGrpSpPr>
          <p:grpSpPr>
            <a:xfrm>
              <a:off x="1055520" y="2130480"/>
              <a:ext cx="7184520" cy="4223880"/>
              <a:chOff x="1055520" y="2130480"/>
              <a:chExt cx="7184520" cy="4223880"/>
            </a:xfrm>
          </p:grpSpPr>
          <p:sp>
            <p:nvSpPr>
              <p:cNvPr id="87" name=""/>
              <p:cNvSpPr/>
              <p:nvPr/>
            </p:nvSpPr>
            <p:spPr>
              <a:xfrm>
                <a:off x="1055520" y="2130480"/>
                <a:ext cx="7152480" cy="41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55520" y="5607000"/>
                <a:ext cx="7152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55520" y="4914720"/>
                <a:ext cx="7152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55520" y="4214520"/>
                <a:ext cx="7152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55520" y="3522600"/>
                <a:ext cx="7152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55520" y="2822400"/>
                <a:ext cx="715248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55520" y="2130480"/>
                <a:ext cx="7152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55520" y="2130480"/>
                <a:ext cx="7152480" cy="4176360"/>
              </a:xfrm>
              <a:prstGeom prst="rect">
                <a:avLst/>
              </a:prstGeom>
              <a:noFill/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208000" y="2130480"/>
                <a:ext cx="1800" cy="417636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08000" y="6306840"/>
                <a:ext cx="320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208000" y="5607000"/>
                <a:ext cx="320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08000" y="4914720"/>
                <a:ext cx="320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208000" y="4214520"/>
                <a:ext cx="320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08000" y="3522600"/>
                <a:ext cx="320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208000" y="2822400"/>
                <a:ext cx="32040" cy="10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08000" y="2130480"/>
                <a:ext cx="320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55520" y="6306840"/>
                <a:ext cx="7152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820800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800496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780192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760860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740556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720252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700092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79788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60312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40152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19848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599544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579420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559908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539604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19444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499140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478980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59468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439200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419076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398772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378468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359100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38796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318492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298332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278028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258516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38392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18088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197784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177660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157356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1378440" y="6306840"/>
                <a:ext cx="180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1177200" y="6306840"/>
                <a:ext cx="1440" cy="475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8174520" y="6306840"/>
                <a:ext cx="25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815868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813456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11872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8094240" y="6306840"/>
                <a:ext cx="2412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807840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8053200" y="6306840"/>
                <a:ext cx="25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803736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8012520" y="6306840"/>
                <a:ext cx="2412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99704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797292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95708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7939800" y="6306840"/>
                <a:ext cx="1728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7914960" y="6306840"/>
                <a:ext cx="2412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89948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787536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785952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783576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7817400" y="6306840"/>
                <a:ext cx="176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779400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777780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75404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73820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71408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7696080" y="6306840"/>
                <a:ext cx="176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767232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765648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763272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761652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759276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574760" y="6306840"/>
                <a:ext cx="176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55100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753516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751104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749520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747144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7453080" y="6306840"/>
                <a:ext cx="176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43760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741348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39764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737388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7356960" y="6306840"/>
                <a:ext cx="16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7332120" y="6306840"/>
                <a:ext cx="25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731592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7292160" y="63068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727632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7251480" y="6306840"/>
                <a:ext cx="2412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723600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7210440" y="6306840"/>
                <a:ext cx="25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7194600" y="63068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5121000" y="6203520"/>
                <a:ext cx="23760" cy="10260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5104800" y="6100560"/>
                <a:ext cx="15840" cy="1029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5081040" y="6013080"/>
                <a:ext cx="23760" cy="867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5065200" y="5925960"/>
                <a:ext cx="15840" cy="8712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flipV="1">
                <a:off x="5041080" y="5852880"/>
                <a:ext cx="23760" cy="7272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flipV="1">
                <a:off x="5023080" y="5781240"/>
                <a:ext cx="17640" cy="7092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4999320" y="5717880"/>
                <a:ext cx="23760" cy="633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4983480" y="5654160"/>
                <a:ext cx="15840" cy="6300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4959720" y="5606640"/>
                <a:ext cx="23760" cy="471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4943520" y="5559120"/>
                <a:ext cx="15840" cy="4752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4919760" y="5519160"/>
                <a:ext cx="23760" cy="392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flipV="1">
                <a:off x="4901400" y="5479560"/>
                <a:ext cx="17640" cy="392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4885920" y="5439960"/>
                <a:ext cx="15840" cy="392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4862160" y="5416200"/>
                <a:ext cx="23760" cy="2340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flipV="1">
                <a:off x="4845960" y="5384520"/>
                <a:ext cx="15840" cy="316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4822200" y="536832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 flipV="1">
                <a:off x="4806360" y="5344560"/>
                <a:ext cx="15840" cy="2340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flipV="1">
                <a:off x="4780080" y="5328720"/>
                <a:ext cx="255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flipV="1">
                <a:off x="4764600" y="531288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flipV="1">
                <a:off x="4740480" y="530496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flipV="1">
                <a:off x="4724640" y="529704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flipV="1">
                <a:off x="4700880" y="52891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flipV="1">
                <a:off x="4683960" y="5281200"/>
                <a:ext cx="1620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4659120" y="5281560"/>
                <a:ext cx="2520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4642920" y="528156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4619160" y="528156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603320" y="528156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578480" y="5281560"/>
                <a:ext cx="2412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563000" y="528948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537440" y="5289480"/>
                <a:ext cx="2520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521600" y="529740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497840" y="53053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480920" y="5313240"/>
                <a:ext cx="1620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457520" y="532116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441320" y="532908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4416120" y="5344920"/>
                <a:ext cx="2520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400280" y="535284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375440" y="5368680"/>
                <a:ext cx="2412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4359960" y="537660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4344120" y="539244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320000" y="5408280"/>
                <a:ext cx="23760" cy="792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304160" y="541656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4277880" y="5432400"/>
                <a:ext cx="255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262400" y="544824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4238640" y="546408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222440" y="547992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198680" y="548784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4182480" y="550368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156560" y="5519520"/>
                <a:ext cx="255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141080" y="553536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4116960" y="555120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01120" y="5567040"/>
                <a:ext cx="15840" cy="158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077000" y="558324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061160" y="559908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4035240" y="5614920"/>
                <a:ext cx="255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019400" y="562284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995640" y="563868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979440" y="565452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955680" y="567036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3939840" y="568620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3913560" y="5702040"/>
                <a:ext cx="255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3898080" y="570996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873960" y="5725800"/>
                <a:ext cx="23760" cy="158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3858120" y="574200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842280" y="575784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817440" y="5765760"/>
                <a:ext cx="2412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800520" y="5781600"/>
                <a:ext cx="1728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3776760" y="579744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760560" y="580536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3736080" y="5821200"/>
                <a:ext cx="2412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720240" y="5829120"/>
                <a:ext cx="1584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3696480" y="584496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3679200" y="5852880"/>
                <a:ext cx="17280" cy="172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3655080" y="58705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3638520" y="5878440"/>
                <a:ext cx="1620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614760" y="589428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598920" y="590220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3575160" y="591012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3557520" y="5925960"/>
                <a:ext cx="1728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533040" y="5933880"/>
                <a:ext cx="2412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3517200" y="594180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493440" y="5949720"/>
                <a:ext cx="23760" cy="154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477600" y="596556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453480" y="597348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435480" y="5981400"/>
                <a:ext cx="176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3411720" y="59893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3395880" y="5997240"/>
                <a:ext cx="15840" cy="792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3372120" y="60055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3355920" y="601344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3340080" y="602136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314160" y="6029280"/>
                <a:ext cx="255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298320" y="603720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274560" y="60451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3258360" y="605304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3234600" y="606096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3218760" y="606888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192480" y="6076800"/>
                <a:ext cx="255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1063080" y="6084720"/>
              <a:ext cx="7136640" cy="223200"/>
              <a:chOff x="1063080" y="6084720"/>
              <a:chExt cx="7136640" cy="223200"/>
            </a:xfrm>
          </p:grpSpPr>
          <p:sp>
            <p:nvSpPr>
              <p:cNvPr id="288" name=""/>
              <p:cNvSpPr/>
              <p:nvPr/>
            </p:nvSpPr>
            <p:spPr>
              <a:xfrm flipH="1">
                <a:off x="3177000" y="608472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152880" y="609228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3137040" y="610020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3112920" y="610020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3097080" y="610812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3071160" y="6116040"/>
                <a:ext cx="255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3055320" y="612396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031560" y="612396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015720" y="613188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991600" y="613980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975040" y="6139800"/>
                <a:ext cx="1620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949840" y="6147720"/>
                <a:ext cx="25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2934000" y="614772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2909880" y="6155640"/>
                <a:ext cx="23760" cy="792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2894040" y="616392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869560" y="6163920"/>
                <a:ext cx="2412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853720" y="617184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2836440" y="6171840"/>
                <a:ext cx="1728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2812680" y="617976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2796480" y="617976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2772000" y="6187680"/>
                <a:ext cx="2412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2756160" y="618768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732400" y="619560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2715120" y="6195600"/>
                <a:ext cx="1728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2691000" y="620352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2674440" y="6203520"/>
                <a:ext cx="1620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650680" y="62035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634840" y="621144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2611080" y="621144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593440" y="6219360"/>
                <a:ext cx="1728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2568960" y="6219360"/>
                <a:ext cx="2412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53480" y="621936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2529360" y="622728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2513520" y="622728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489400" y="622728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471400" y="6235200"/>
                <a:ext cx="176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2447640" y="623520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2431800" y="623520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2408040" y="623520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2391840" y="624312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2368080" y="624312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2350080" y="6243120"/>
                <a:ext cx="176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2334240" y="624312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2310480" y="625104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2294280" y="625104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2270520" y="625104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2254680" y="625104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228400" y="6258960"/>
                <a:ext cx="255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2212920" y="625896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2188800" y="6258960"/>
                <a:ext cx="2376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172960" y="6258960"/>
                <a:ext cx="15840" cy="108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149200" y="625896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2133000" y="626688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2107080" y="6266880"/>
                <a:ext cx="255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2091600" y="626688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2067480" y="626688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051640" y="626688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026800" y="6266880"/>
                <a:ext cx="2412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2011320" y="627480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1985760" y="6274800"/>
                <a:ext cx="25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1969920" y="627480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1946160" y="627480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1929240" y="6274800"/>
                <a:ext cx="16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1905840" y="627480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1890000" y="627480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1864440" y="6282720"/>
                <a:ext cx="25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1848600" y="628272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1823760" y="6282720"/>
                <a:ext cx="2412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808280" y="628272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1792440" y="628272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768320" y="628272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1752480" y="628272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1726200" y="6282720"/>
                <a:ext cx="255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1710720" y="628272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>
                <a:off x="1686960" y="6282720"/>
                <a:ext cx="2376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1670760" y="62906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1647000" y="62906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1631160" y="62906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1604880" y="6290640"/>
                <a:ext cx="255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1589400" y="62906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1565280" y="62906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1549440" y="62906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1525680" y="62906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1509480" y="62906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1483560" y="6290640"/>
                <a:ext cx="255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1467720" y="62906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1443960" y="62906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1428120" y="629064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1404000" y="629064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1388160" y="6290640"/>
                <a:ext cx="15840" cy="756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361880" y="6298560"/>
                <a:ext cx="255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1346400" y="629856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1322640" y="629856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1306440" y="629856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1290600" y="629856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1265760" y="6298560"/>
                <a:ext cx="2412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248840" y="6298560"/>
                <a:ext cx="1728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1225080" y="629856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1208880" y="629856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1185120" y="629856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>
                <a:off x="1168560" y="6298560"/>
                <a:ext cx="1620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1144800" y="629856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127520" y="6298560"/>
                <a:ext cx="1728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1103400" y="6298560"/>
                <a:ext cx="2376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1087560" y="6298560"/>
                <a:ext cx="1584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H="1">
                <a:off x="1063080" y="6298560"/>
                <a:ext cx="24120" cy="1440"/>
              </a:xfrm>
              <a:prstGeom prst="line">
                <a:avLst/>
              </a:prstGeom>
              <a:ln w="23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8174520" y="6306480"/>
                <a:ext cx="25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81586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81345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81187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809388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80784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8053200" y="6306480"/>
                <a:ext cx="25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80370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801252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99704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9729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79570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7939440" y="6306480"/>
                <a:ext cx="172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791496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78994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78753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78595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78354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781740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77940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77778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775404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773784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77140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769608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76723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6564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76323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76165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5927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757440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75510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753516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751104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74952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74710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745308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74376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74134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739764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73735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7356960" y="6306480"/>
                <a:ext cx="16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7332120" y="6306480"/>
                <a:ext cx="25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73159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921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72763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725148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72360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7210440" y="6306480"/>
                <a:ext cx="25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71946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71704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7153920" y="6306480"/>
                <a:ext cx="16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71305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71143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089120" y="6306480"/>
                <a:ext cx="25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70732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704844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703296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700884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9930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967440" y="6306480"/>
                <a:ext cx="25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950880" y="6306480"/>
                <a:ext cx="16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9274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69112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689544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68716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685332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68299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68137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7899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7741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67500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73200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70824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6924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666864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665244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66286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661068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65869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65710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65469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65311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65073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648900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64656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64494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flipV="1">
                <a:off x="6425640" y="6298200"/>
                <a:ext cx="237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409800" y="629856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392880" y="6298560"/>
                <a:ext cx="16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368040" y="6298560"/>
                <a:ext cx="25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352200" y="629856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328080" y="629856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6312240" y="629028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113280" y="4763520"/>
              <a:ext cx="5086440" cy="1544400"/>
              <a:chOff x="3113280" y="4763520"/>
              <a:chExt cx="5086440" cy="154440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6287400" y="629064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6271920" y="629064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6246360" y="6282360"/>
                <a:ext cx="2520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6230520" y="628272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6206040" y="6274440"/>
                <a:ext cx="2412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190200" y="627480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 flipV="1">
                <a:off x="6166440" y="6266520"/>
                <a:ext cx="237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 flipV="1">
                <a:off x="6150600" y="625860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125040" y="6258960"/>
                <a:ext cx="2520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flipV="1">
                <a:off x="6109200" y="625068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flipV="1">
                <a:off x="6084360" y="6234840"/>
                <a:ext cx="2412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6068880" y="622692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 flipV="1">
                <a:off x="6045120" y="6219000"/>
                <a:ext cx="237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 flipV="1">
                <a:off x="6028920" y="620316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>
                <a:off x="6003000" y="6195240"/>
                <a:ext cx="255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flipV="1">
                <a:off x="5987160" y="617940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>
                <a:off x="5963400" y="6155640"/>
                <a:ext cx="23760" cy="23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5947560" y="613944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5923440" y="6123600"/>
                <a:ext cx="2376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5907600" y="6099840"/>
                <a:ext cx="15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>
                <a:off x="5891760" y="6076080"/>
                <a:ext cx="15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 flipV="1">
                <a:off x="5865480" y="6044400"/>
                <a:ext cx="2556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 flipV="1">
                <a:off x="5850000" y="6020640"/>
                <a:ext cx="15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5825880" y="5988960"/>
                <a:ext cx="23760" cy="316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 flipV="1">
                <a:off x="5810040" y="5956920"/>
                <a:ext cx="1584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 flipV="1">
                <a:off x="5786280" y="5925240"/>
                <a:ext cx="2376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5770080" y="5885640"/>
                <a:ext cx="1584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 flipV="1">
                <a:off x="5744160" y="5844600"/>
                <a:ext cx="25560" cy="410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 flipV="1">
                <a:off x="5728320" y="5804640"/>
                <a:ext cx="1584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 flipV="1">
                <a:off x="5704560" y="5765040"/>
                <a:ext cx="2376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 flipV="1">
                <a:off x="5688720" y="5717520"/>
                <a:ext cx="15840" cy="47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 flipV="1">
                <a:off x="5664600" y="5669640"/>
                <a:ext cx="237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5648760" y="5622120"/>
                <a:ext cx="1584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 flipV="1">
                <a:off x="5622480" y="5574600"/>
                <a:ext cx="25560" cy="47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flipV="1">
                <a:off x="5607000" y="5526720"/>
                <a:ext cx="1584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5583240" y="5471280"/>
                <a:ext cx="23760" cy="55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 flipV="1">
                <a:off x="5567040" y="5423760"/>
                <a:ext cx="1584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 flipV="1">
                <a:off x="5542560" y="5368320"/>
                <a:ext cx="24120" cy="55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 flipV="1">
                <a:off x="5526720" y="5320440"/>
                <a:ext cx="1584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 flipV="1">
                <a:off x="5501520" y="5265000"/>
                <a:ext cx="25200" cy="55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5485680" y="5217480"/>
                <a:ext cx="15840" cy="47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5461560" y="5169600"/>
                <a:ext cx="237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 flipV="1">
                <a:off x="5445000" y="5120640"/>
                <a:ext cx="16200" cy="48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 flipV="1">
                <a:off x="5421240" y="5072760"/>
                <a:ext cx="237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5405400" y="5025240"/>
                <a:ext cx="1584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 flipV="1">
                <a:off x="5388120" y="4985640"/>
                <a:ext cx="1728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>
                <a:off x="5364000" y="4945680"/>
                <a:ext cx="2376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 flipV="1">
                <a:off x="5347440" y="4906080"/>
                <a:ext cx="1620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 flipV="1">
                <a:off x="5324040" y="4874400"/>
                <a:ext cx="2376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 flipV="1">
                <a:off x="5307840" y="4850640"/>
                <a:ext cx="15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5284080" y="4818960"/>
                <a:ext cx="23760" cy="316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 flipV="1">
                <a:off x="5266440" y="4802760"/>
                <a:ext cx="1728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 flipV="1">
                <a:off x="5241960" y="4786920"/>
                <a:ext cx="2412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 flipV="1">
                <a:off x="5226480" y="477108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 flipV="1">
                <a:off x="5202360" y="4763520"/>
                <a:ext cx="237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5186520" y="47638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162400" y="47638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5144400" y="4763880"/>
                <a:ext cx="176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5121000" y="4771440"/>
                <a:ext cx="2376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5104800" y="478728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5081040" y="4803120"/>
                <a:ext cx="2376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5064840" y="4818960"/>
                <a:ext cx="15840" cy="316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041080" y="4851000"/>
                <a:ext cx="2376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5023080" y="4874760"/>
                <a:ext cx="1764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4999320" y="4906440"/>
                <a:ext cx="2376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4983480" y="4946040"/>
                <a:ext cx="1584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4959360" y="4985640"/>
                <a:ext cx="23760" cy="396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4943520" y="5025600"/>
                <a:ext cx="1584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4919760" y="5073120"/>
                <a:ext cx="237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4901400" y="5120640"/>
                <a:ext cx="17640" cy="489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4885920" y="5169960"/>
                <a:ext cx="1584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4862160" y="5217480"/>
                <a:ext cx="23760" cy="47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4845960" y="5265360"/>
                <a:ext cx="15840" cy="55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4822200" y="5320800"/>
                <a:ext cx="237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4806000" y="5368320"/>
                <a:ext cx="15840" cy="55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4780080" y="5424120"/>
                <a:ext cx="255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4764600" y="5471640"/>
                <a:ext cx="15840" cy="55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4740480" y="5527080"/>
                <a:ext cx="237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4724640" y="5574600"/>
                <a:ext cx="15840" cy="47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4700520" y="5622480"/>
                <a:ext cx="2376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4683960" y="5670000"/>
                <a:ext cx="16200" cy="471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4659120" y="5717520"/>
                <a:ext cx="25200" cy="475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4642920" y="5765400"/>
                <a:ext cx="1584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4619160" y="5805000"/>
                <a:ext cx="2376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4602960" y="5844600"/>
                <a:ext cx="15840" cy="410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4578480" y="5886000"/>
                <a:ext cx="24120" cy="392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563000" y="5925600"/>
                <a:ext cx="1584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4537440" y="5957280"/>
                <a:ext cx="2520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4521600" y="5988960"/>
                <a:ext cx="15840" cy="316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4497480" y="6021000"/>
                <a:ext cx="2376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4480920" y="6044760"/>
                <a:ext cx="16200" cy="3132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4457520" y="6076440"/>
                <a:ext cx="2376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4441320" y="6100200"/>
                <a:ext cx="15840" cy="2340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4416120" y="6123960"/>
                <a:ext cx="2520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4400280" y="613980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4375440" y="6155640"/>
                <a:ext cx="24120" cy="237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4359960" y="617976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4343760" y="619560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4320000" y="6203520"/>
                <a:ext cx="2376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4304160" y="621936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4277880" y="6227280"/>
                <a:ext cx="255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4262400" y="6235200"/>
                <a:ext cx="15840" cy="154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4238280" y="6251040"/>
                <a:ext cx="237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4222440" y="6258960"/>
                <a:ext cx="15840" cy="108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198680" y="6258960"/>
                <a:ext cx="237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4182480" y="626688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4156560" y="6274800"/>
                <a:ext cx="255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4141080" y="627480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4116960" y="628272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4101120" y="6282720"/>
                <a:ext cx="1584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4077000" y="629064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4061160" y="629064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034880" y="6290640"/>
                <a:ext cx="255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019400" y="629856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3995640" y="629856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3979440" y="629856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955680" y="629856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939840" y="629856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913560" y="6298560"/>
                <a:ext cx="25560" cy="756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38980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38739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8581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8422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81744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800520" y="6306480"/>
                <a:ext cx="172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7764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76056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373608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72024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6964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679200" y="6306480"/>
                <a:ext cx="172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6550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638520" y="6306480"/>
                <a:ext cx="1620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6147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5989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5748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557520" y="6306480"/>
                <a:ext cx="1728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533040" y="6306480"/>
                <a:ext cx="2412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5172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49344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4776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34534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435480" y="6306480"/>
                <a:ext cx="176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4117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3958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37212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33559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334008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3313800" y="6306480"/>
                <a:ext cx="255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329832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327456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325836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323460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321876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3192480" y="6306480"/>
                <a:ext cx="255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317700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31528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137040" y="6306480"/>
                <a:ext cx="1584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3113280" y="6306480"/>
                <a:ext cx="23760" cy="1440"/>
              </a:xfrm>
              <a:prstGeom prst="line">
                <a:avLst/>
              </a:prstGeom>
              <a:ln w="23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8174520" y="6306480"/>
                <a:ext cx="25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81586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81345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81187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809388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80784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8053200" y="6306480"/>
                <a:ext cx="25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80370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801252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79970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79729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79570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7939440" y="6306480"/>
                <a:ext cx="1728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91496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78994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78753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78595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78354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7817400" y="6306480"/>
                <a:ext cx="176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77940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77778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77540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77382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140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696080" y="6306480"/>
                <a:ext cx="176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76723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76564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76323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76165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75927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7574400" y="6306480"/>
                <a:ext cx="176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75510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75351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75110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74952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74710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7453080" y="6306480"/>
                <a:ext cx="176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74376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74134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73976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73735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1306440" y="2639520"/>
              <a:ext cx="6066720" cy="3668400"/>
              <a:chOff x="1306440" y="2639520"/>
              <a:chExt cx="6066720" cy="3668400"/>
            </a:xfrm>
          </p:grpSpPr>
          <p:sp>
            <p:nvSpPr>
              <p:cNvPr id="690" name=""/>
              <p:cNvSpPr/>
              <p:nvPr/>
            </p:nvSpPr>
            <p:spPr>
              <a:xfrm flipH="1">
                <a:off x="7356960" y="6306480"/>
                <a:ext cx="16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7332120" y="6306480"/>
                <a:ext cx="25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73159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72921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72763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725148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72360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7210440" y="6306480"/>
                <a:ext cx="25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71946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120640" y="5072760"/>
                <a:ext cx="23760" cy="12330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 flipV="1">
                <a:off x="5104800" y="4166280"/>
                <a:ext cx="15840" cy="90612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5081040" y="3521880"/>
                <a:ext cx="23760" cy="6440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 flipV="1">
                <a:off x="5064840" y="3092040"/>
                <a:ext cx="15840" cy="4298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 flipV="1">
                <a:off x="5041080" y="2821680"/>
                <a:ext cx="23760" cy="2696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 flipV="1">
                <a:off x="5022720" y="2687040"/>
                <a:ext cx="17640" cy="1346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4999320" y="2639520"/>
                <a:ext cx="23760" cy="471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4983480" y="2639880"/>
                <a:ext cx="15840" cy="392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959360" y="2679120"/>
                <a:ext cx="23760" cy="8712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4943520" y="2766600"/>
                <a:ext cx="15840" cy="1263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4919400" y="2893320"/>
                <a:ext cx="23760" cy="1584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4901400" y="3052080"/>
                <a:ext cx="17640" cy="1760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4885920" y="3228480"/>
                <a:ext cx="15840" cy="1900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4861800" y="3418920"/>
                <a:ext cx="23760" cy="1900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4845960" y="3609360"/>
                <a:ext cx="15840" cy="1918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4821840" y="3801600"/>
                <a:ext cx="23760" cy="1900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4806000" y="3992040"/>
                <a:ext cx="15840" cy="1821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4780080" y="4174560"/>
                <a:ext cx="25560" cy="1742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4764240" y="4349160"/>
                <a:ext cx="15840" cy="16812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4740480" y="4517640"/>
                <a:ext cx="23760" cy="1584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4724640" y="4676400"/>
                <a:ext cx="15840" cy="1422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700520" y="4818960"/>
                <a:ext cx="23760" cy="1346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4683960" y="4953960"/>
                <a:ext cx="16200" cy="12672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658760" y="5081040"/>
                <a:ext cx="25200" cy="1202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642920" y="5201640"/>
                <a:ext cx="15840" cy="1029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4618800" y="5304960"/>
                <a:ext cx="23760" cy="1026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4602960" y="5407920"/>
                <a:ext cx="15840" cy="8712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4578480" y="5495400"/>
                <a:ext cx="24120" cy="788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4562640" y="5574600"/>
                <a:ext cx="15840" cy="792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4537440" y="5654160"/>
                <a:ext cx="25200" cy="630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4521600" y="5717520"/>
                <a:ext cx="15840" cy="633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4497480" y="5781240"/>
                <a:ext cx="23760" cy="550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4480920" y="5836680"/>
                <a:ext cx="16200" cy="489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4457160" y="5886000"/>
                <a:ext cx="23760" cy="471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4441320" y="5933520"/>
                <a:ext cx="15840" cy="392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4415760" y="5973120"/>
                <a:ext cx="25200" cy="316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399920" y="6005160"/>
                <a:ext cx="15840" cy="3132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4375440" y="6036840"/>
                <a:ext cx="24120" cy="3132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359600" y="6068520"/>
                <a:ext cx="15840" cy="234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4343760" y="6092280"/>
                <a:ext cx="15840" cy="234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4320000" y="6116040"/>
                <a:ext cx="23760" cy="2340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303800" y="6139800"/>
                <a:ext cx="15840" cy="154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4277880" y="6155640"/>
                <a:ext cx="25560" cy="158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4262040" y="6171840"/>
                <a:ext cx="15840" cy="154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4238280" y="6187680"/>
                <a:ext cx="23760" cy="154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4222440" y="6203520"/>
                <a:ext cx="1584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4198320" y="6211440"/>
                <a:ext cx="23760" cy="154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4182480" y="6227280"/>
                <a:ext cx="1584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4156200" y="6235200"/>
                <a:ext cx="2556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4140720" y="6243120"/>
                <a:ext cx="1584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4116960" y="6251040"/>
                <a:ext cx="2376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4100760" y="6258960"/>
                <a:ext cx="15840" cy="108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4077000" y="6258960"/>
                <a:ext cx="2376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4061160" y="6266880"/>
                <a:ext cx="1584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4034880" y="627480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4019400" y="6274800"/>
                <a:ext cx="1584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3995280" y="628272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3979440" y="628272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3955320" y="6282720"/>
                <a:ext cx="2376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3939480" y="629064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3913560" y="629064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3897720" y="629064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3873960" y="6290640"/>
                <a:ext cx="2376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3858120" y="629856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3841920" y="629856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3817440" y="629856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3800160" y="6298560"/>
                <a:ext cx="1728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3776400" y="629856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3760560" y="629856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735720" y="629856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3720240" y="6298560"/>
                <a:ext cx="15840" cy="756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36961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3678840" y="6306480"/>
                <a:ext cx="1728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36550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3638160" y="6306480"/>
                <a:ext cx="16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36147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35985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35748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3557520" y="6306480"/>
                <a:ext cx="1728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353268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35172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34930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4772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34534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3435120" y="6306480"/>
                <a:ext cx="176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34117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33955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33717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33559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33397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331380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2983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32742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32583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2342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32184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319212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31766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31528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31366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31129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0970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307080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30553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0312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30153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29916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2974680" y="6306480"/>
                <a:ext cx="16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2949840" y="6306480"/>
                <a:ext cx="25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29336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29098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28940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286920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28537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2836440" y="6306480"/>
                <a:ext cx="1728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28123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27964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277164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27561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27320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2714760" y="6306480"/>
                <a:ext cx="1728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26910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2674080" y="6306480"/>
                <a:ext cx="16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26506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26348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26107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2593440" y="6306480"/>
                <a:ext cx="1728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256860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25531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25290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25131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24894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2471040" y="6306480"/>
                <a:ext cx="176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24476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24318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24076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23918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23677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2349720" y="6306480"/>
                <a:ext cx="176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23342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23101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22942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227016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22543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222840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22125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21888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21726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21488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21330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210672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20912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20671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20512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202680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20109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1985760" y="6306480"/>
                <a:ext cx="25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19699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19458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1929240" y="6306480"/>
                <a:ext cx="16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19054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18896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1864080" y="6306480"/>
                <a:ext cx="2520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18482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1823760" y="6306480"/>
                <a:ext cx="2412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18079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17920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683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17521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172620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17103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16866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16707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16466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16308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160452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15890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15652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154908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152532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15091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148320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46772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144360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142776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140364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138780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1361880" y="6306480"/>
                <a:ext cx="255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13460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1322280" y="6306480"/>
                <a:ext cx="2376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1306440" y="6306480"/>
                <a:ext cx="15840" cy="1440"/>
              </a:xfrm>
              <a:prstGeom prst="line">
                <a:avLst/>
              </a:prstGeom>
              <a:ln w="237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 flipH="1">
              <a:off x="1290600" y="6306840"/>
              <a:ext cx="1584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1266120" y="6306840"/>
              <a:ext cx="2412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1248840" y="6306840"/>
              <a:ext cx="1728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1225080" y="6306840"/>
              <a:ext cx="2376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1209240" y="6306840"/>
              <a:ext cx="1584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1185120" y="6306840"/>
              <a:ext cx="2376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1168560" y="6306840"/>
              <a:ext cx="1620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1144800" y="6306840"/>
              <a:ext cx="2376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1127520" y="6306840"/>
              <a:ext cx="1728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1103400" y="6306840"/>
              <a:ext cx="2376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1087560" y="6306840"/>
              <a:ext cx="1584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1063080" y="6306840"/>
              <a:ext cx="24120" cy="144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764600" y="61005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54400" y="6426000"/>
              <a:ext cx="1245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100" spc="-1" strike="noStrike">
                  <a:solidFill>
                    <a:srgbClr val="333333"/>
                  </a:solidFill>
                  <a:latin typeface="Arial"/>
                </a:rPr>
                <a:t>Eficiência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6200000">
              <a:off x="8004240" y="4278240"/>
              <a:ext cx="273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vert="eaVert">
              <a:spAutoFit/>
            </a:bodyPr>
            <a:p>
              <a:pPr algn="ctr">
                <a:lnSpc>
                  <a:spcPct val="100000"/>
                </a:lnSpc>
                <a:spcAft>
                  <a:spcPts val="6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200000">
              <a:off x="8029080" y="3956760"/>
              <a:ext cx="10414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86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333333"/>
                  </a:solidFill>
                  <a:latin typeface="Arial"/>
                </a:rPr>
                <a:t>Venda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697000" y="2655720"/>
              <a:ext cx="2356560" cy="1933200"/>
            </a:xfrm>
            <a:prstGeom prst="rect">
              <a:avLst/>
            </a:prstGeom>
            <a:noFill/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78360" y="2846160"/>
              <a:ext cx="192960" cy="1440"/>
            </a:xfrm>
            <a:prstGeom prst="line">
              <a:avLst/>
            </a:prstGeom>
            <a:ln w="23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71040" y="2697120"/>
              <a:ext cx="1841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ff00"/>
                  </a:solidFill>
                  <a:latin typeface="Arial"/>
                </a:rPr>
                <a:t>Padrões e Se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763960" y="3535200"/>
              <a:ext cx="193320" cy="108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94000" y="3382920"/>
              <a:ext cx="1995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Sem padr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pt-BR" sz="1600" spc="-1" strike="noStrike">
                  <a:solidFill>
                    <a:srgbClr val="ff0000"/>
                  </a:solidFill>
                  <a:latin typeface="Arial"/>
                </a:rPr>
                <a:t>ou se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63960" y="4221000"/>
              <a:ext cx="193320" cy="1080"/>
            </a:xfrm>
            <a:prstGeom prst="line">
              <a:avLst/>
            </a:prstGeom>
            <a:ln w="23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94000" y="4144680"/>
              <a:ext cx="1787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80"/>
                  </a:solidFill>
                  <a:latin typeface="Arial"/>
                </a:rPr>
                <a:t>Somente padrõ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2999880" y="5408280"/>
              <a:ext cx="792360" cy="230040"/>
              <a:chOff x="2999880" y="5408280"/>
              <a:chExt cx="792360" cy="230040"/>
            </a:xfrm>
          </p:grpSpPr>
          <p:sp>
            <p:nvSpPr>
              <p:cNvPr id="914" name=""/>
              <p:cNvSpPr/>
              <p:nvPr/>
            </p:nvSpPr>
            <p:spPr>
              <a:xfrm flipH="1">
                <a:off x="3210480" y="5519160"/>
                <a:ext cx="581760" cy="1440"/>
              </a:xfrm>
              <a:prstGeom prst="line">
                <a:avLst/>
              </a:prstGeom>
              <a:ln w="316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999880" y="5408280"/>
                <a:ext cx="234720" cy="230040"/>
              </a:xfrm>
              <a:custGeom>
                <a:avLst/>
                <a:gdLst/>
                <a:ahLst/>
                <a:rect l="l" t="t" r="r" b="b"/>
                <a:pathLst>
                  <a:path w="147" h="145">
                    <a:moveTo>
                      <a:pt x="147" y="0"/>
                    </a:moveTo>
                    <a:lnTo>
                      <a:pt x="0" y="70"/>
                    </a:lnTo>
                    <a:lnTo>
                      <a:pt x="147" y="145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8467560" y="3228840"/>
              <a:ext cx="234360" cy="538560"/>
              <a:chOff x="8467560" y="3228840"/>
              <a:chExt cx="234360" cy="538560"/>
            </a:xfrm>
          </p:grpSpPr>
          <p:sp>
            <p:nvSpPr>
              <p:cNvPr id="917" name=""/>
              <p:cNvSpPr/>
              <p:nvPr/>
            </p:nvSpPr>
            <p:spPr>
              <a:xfrm flipH="1" flipV="1">
                <a:off x="8580600" y="3426480"/>
                <a:ext cx="7920" cy="340920"/>
              </a:xfrm>
              <a:prstGeom prst="line">
                <a:avLst/>
              </a:prstGeom>
              <a:ln w="31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467560" y="3228840"/>
                <a:ext cx="234360" cy="221760"/>
              </a:xfrm>
              <a:custGeom>
                <a:avLst/>
                <a:gdLst/>
                <a:ahLst/>
                <a:rect l="l" t="t" r="r" b="b"/>
                <a:pathLst>
                  <a:path w="147" h="140">
                    <a:moveTo>
                      <a:pt x="147" y="140"/>
                    </a:moveTo>
                    <a:lnTo>
                      <a:pt x="76" y="0"/>
                    </a:lnTo>
                    <a:lnTo>
                      <a:pt x="0" y="140"/>
                    </a:lnTo>
                    <a:lnTo>
                      <a:pt x="147" y="14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3113280" y="6537240"/>
              <a:ext cx="792000" cy="231480"/>
              <a:chOff x="3113280" y="6537240"/>
              <a:chExt cx="792000" cy="231480"/>
            </a:xfrm>
          </p:grpSpPr>
          <p:sp>
            <p:nvSpPr>
              <p:cNvPr id="920" name=""/>
              <p:cNvSpPr/>
              <p:nvPr/>
            </p:nvSpPr>
            <p:spPr>
              <a:xfrm flipH="1">
                <a:off x="3321720" y="6649560"/>
                <a:ext cx="583560" cy="1080"/>
              </a:xfrm>
              <a:prstGeom prst="line">
                <a:avLst/>
              </a:prstGeom>
              <a:ln w="316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113280" y="6537240"/>
                <a:ext cx="234720" cy="231480"/>
              </a:xfrm>
              <a:custGeom>
                <a:avLst/>
                <a:gdLst/>
                <a:ahLst/>
                <a:rect l="l" t="t" r="r" b="b"/>
                <a:pathLst>
                  <a:path w="147" h="146">
                    <a:moveTo>
                      <a:pt x="147" y="0"/>
                    </a:moveTo>
                    <a:lnTo>
                      <a:pt x="0" y="71"/>
                    </a:lnTo>
                    <a:lnTo>
                      <a:pt x="147" y="146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5218560" y="5209920"/>
              <a:ext cx="794160" cy="372960"/>
              <a:chOff x="5218560" y="5209920"/>
              <a:chExt cx="794160" cy="372960"/>
            </a:xfrm>
          </p:grpSpPr>
          <p:sp>
            <p:nvSpPr>
              <p:cNvPr id="923" name=""/>
              <p:cNvSpPr/>
              <p:nvPr/>
            </p:nvSpPr>
            <p:spPr>
              <a:xfrm>
                <a:off x="5567040" y="5368320"/>
                <a:ext cx="445680" cy="47520"/>
              </a:xfrm>
              <a:custGeom>
                <a:avLst/>
                <a:gdLst/>
                <a:ahLst/>
                <a:rect l="l" t="t" r="r" b="b"/>
                <a:pathLst>
                  <a:path w="55" h="6">
                    <a:moveTo>
                      <a:pt x="55" y="6"/>
                    </a:moveTo>
                    <a:lnTo>
                      <a:pt x="0" y="6"/>
                    </a:lnTo>
                    <a:moveTo>
                      <a:pt x="55" y="0"/>
                    </a:move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218560" y="5209920"/>
                <a:ext cx="372600" cy="372960"/>
              </a:xfrm>
              <a:custGeom>
                <a:avLst/>
                <a:gdLst/>
                <a:ahLst/>
                <a:rect l="l" t="t" r="r" b="b"/>
                <a:pathLst>
                  <a:path w="233" h="235">
                    <a:moveTo>
                      <a:pt x="233" y="0"/>
                    </a:moveTo>
                    <a:lnTo>
                      <a:pt x="0" y="115"/>
                    </a:lnTo>
                    <a:lnTo>
                      <a:pt x="233" y="235"/>
                    </a:lnTo>
                    <a:lnTo>
                      <a:pt x="23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5567040" y="5392080"/>
                <a:ext cx="4456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013440" y="5049720"/>
              <a:ext cx="2396520" cy="6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226560" y="5073480"/>
              <a:ext cx="1863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700" spc="-1" strike="noStrike">
                  <a:solidFill>
                    <a:srgbClr val="808080"/>
                  </a:solidFill>
                  <a:latin typeface="Arial"/>
                </a:rPr>
                <a:t>Padrões mínim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5833440" y="5352840"/>
              <a:ext cx="2422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700" spc="-1" strike="noStrike">
                  <a:solidFill>
                    <a:srgbClr val="808080"/>
                  </a:solidFill>
                  <a:latin typeface="Arial"/>
                </a:rPr>
                <a:t>“</a:t>
              </a:r>
              <a:r>
                <a:rPr b="1" lang="pt-BR" sz="1700" spc="-1" strike="noStrike">
                  <a:solidFill>
                    <a:srgbClr val="808080"/>
                  </a:solidFill>
                  <a:latin typeface="Arial"/>
                </a:rPr>
                <a:t>empurram" o merca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17760" y="4970160"/>
              <a:ext cx="239652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18320" y="4994280"/>
              <a:ext cx="2771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700" spc="-1" strike="noStrike">
                  <a:solidFill>
                    <a:srgbClr val="808080"/>
                  </a:solidFill>
                  <a:latin typeface="Arial"/>
                </a:rPr>
                <a:t>Selos de Energia “puxam"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613160" y="527364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6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700" spc="-1" strike="noStrike">
                  <a:solidFill>
                    <a:srgbClr val="808080"/>
                  </a:solidFill>
                  <a:latin typeface="Arial"/>
                </a:rPr>
                <a:t>o merca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510240" y="6583320"/>
              <a:ext cx="173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Courtesy of Paul Wa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Produ</a:t>
            </a:r>
            <a:r>
              <a:rPr b="0" lang="en-US" sz="4400" spc="-1" strike="noStrike">
                <a:solidFill>
                  <a:srgbClr val="000000"/>
                </a:solidFill>
                <a:latin typeface="Times New Roman MT Extra Bold"/>
              </a:rPr>
              <a:t>c</a:t>
            </a: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tos Tipicamente Regulados e com Sel</a:t>
            </a:r>
            <a:r>
              <a:rPr b="0" lang="en-US" sz="4400" spc="-1" strike="noStrike">
                <a:solidFill>
                  <a:srgbClr val="000000"/>
                </a:solidFill>
                <a:latin typeface="Times New Roman MT Extra Bold"/>
              </a:rPr>
              <a:t>l</a:t>
            </a: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frigerad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dicionadores de 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vadoras de Lou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ntilad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t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dutos de Ilumin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tomó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quenos utensílios domé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ldeiras, aquec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vadoras 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u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mbas (de água ou 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pamentos eletrônicos domé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pamentos de escritó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Argumentos para Programas de Padrões e Sel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045800" y="2209680"/>
            <a:ext cx="773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lhorar a eficiência global da economia nacional dos países que adotam e o bem-estar d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rmonizar e testar procedimentos e padrões em níveis regionais e globais para evitar barreiras indiretas de comércio e o aumento dos custos das manufatu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rcados de exportação abe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truir capacidade institucional para teste e regulag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judar encontrar metas de mudança de ambiente e evitar poluição urbana/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055160" y="1371240"/>
            <a:ext cx="7736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 MT Extra Bold"/>
              </a:rPr>
              <a:t>Benefícios de Impostos (taxas)</a:t>
            </a:r>
            <a:endParaRPr b="1" lang="en-US" sz="4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86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certo número de países tem tido experiência com isenção ou impostos de importação reduzidos para equipamentos de eficiência energética através dos anos.  A maioria desses programa tem sido temporária (3-5 ano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ntagens: aumento de investimentos em equipamentos de 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1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svantagens:  dificuldade de ser aprovado; requer incômodas listas de equipamentos enquadráve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rmalmente, nos EUA esta é uma taxa de crédito para investimento em  equipamento de energia renováv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Intervenciones en el Mercado: motivacion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: promoción del interese público y política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arollo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i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 temas del medio ambiente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ver imperfecciones específicas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 y priorizar objetivos de política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inim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ar conflictos de la compet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4343400" y="3048120"/>
            <a:ext cx="2209680" cy="2209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905120" y="2590920"/>
            <a:ext cx="3124080" cy="3047760"/>
          </a:xfrm>
          <a:prstGeom prst="ellipse">
            <a:avLst/>
          </a:prstGeom>
          <a:solidFill>
            <a:srgbClr val="8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Politicas publicas y transformación de mercado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45" name=""/>
          <p:cNvSpPr/>
          <p:nvPr/>
        </p:nvSpPr>
        <p:spPr>
          <a:xfrm>
            <a:off x="4800600" y="3581280"/>
            <a:ext cx="1219320" cy="121932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668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ocie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95680" y="3962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ncessioná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5486400" y="3123720"/>
            <a:ext cx="76320" cy="381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 flipV="1">
            <a:off x="4876560" y="3276720"/>
            <a:ext cx="22860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791320" y="3352320"/>
            <a:ext cx="38088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>
            <a:off x="4952520" y="4800600"/>
            <a:ext cx="22860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486400" y="4800600"/>
            <a:ext cx="7632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43600" y="4572000"/>
            <a:ext cx="30492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400800" y="205740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badi MT Condensed Light"/>
              </a:rPr>
              <a:t>Políticas públicas podem estimular maiores investimentos privados em EE (Remoção de barreiras de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5638320" y="2362320"/>
            <a:ext cx="76212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019920" y="3733560"/>
            <a:ext cx="457200" cy="228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95880" y="4267080"/>
            <a:ext cx="381240" cy="76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816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badi MT Condensed Light"/>
              </a:rPr>
              <a:t>Ações determinadas pelo mercado competitivo e financiados pelas próprias companhi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6324480" y="4876920"/>
            <a:ext cx="457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429000" y="57150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badi MT Condensed Light"/>
              </a:rPr>
              <a:t>Investimentos com recursos regulados (públic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724280" y="4343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>
            <a:off x="4038120" y="4876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" y="5334120"/>
            <a:ext cx="1905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badi MT Condensed Light"/>
              </a:rPr>
              <a:t>Ações  que requerem financiamento público “Falhas de Mercad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676520" y="4648320"/>
            <a:ext cx="1218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2120" y="1600200"/>
            <a:ext cx="190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badi MT Condensed Light"/>
              </a:rPr>
              <a:t>Limite considerado satisfatório/econo-micamente viável para a socie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676520" y="3048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733920" y="1600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badi MT Condensed Light"/>
              </a:rPr>
              <a:t>Objetivo de políticas públicas</a:t>
            </a:r>
            <a:r>
              <a:rPr b="0" lang="pt-BR" sz="1800" spc="-1" strike="noStrike">
                <a:solidFill>
                  <a:srgbClr val="000000"/>
                </a:solidFill>
                <a:latin typeface="Abadi MT Condensed Light"/>
              </a:rPr>
              <a:t>: maximizar ações com uso mínimo de recursos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4419720" y="2438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724280" y="24382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762120" y="3886200"/>
            <a:ext cx="838080" cy="2133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62120" y="3429000"/>
            <a:ext cx="83808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762120" y="1447920"/>
            <a:ext cx="838080" cy="19810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752480" y="472428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ncessionári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Ener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ções de interesse próprio da empres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red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ion de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ios al consumido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DSM, tarif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752480" y="33526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sión de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5248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rcado Priva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ONGs, empresas 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rat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752480" y="167652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Principal agent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or público. Ações: Transfor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ón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mercado, Normas técnica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amp;D de interesse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858000" y="5029200"/>
            <a:ext cx="18288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 de consumidores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de energi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62120" y="3429000"/>
            <a:ext cx="83808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Potencial de Efici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ncia Energética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533520" y="198072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4920" y="571500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1523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391520" y="2743200"/>
            <a:ext cx="380880" cy="1752480"/>
          </a:xfrm>
          <a:prstGeom prst="upArrow">
            <a:avLst>
              <a:gd name="adj1" fmla="val 50000"/>
              <a:gd name="adj2" fmla="val 11502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553080" y="1676520"/>
            <a:ext cx="221004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Financi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ón de políticas públicas de 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Que és Transformación de Mercado?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o hacer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Tópic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ormas del sector de energía y la eficien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for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ó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mercado de usos fi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de energí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ritérios para implan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ó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programas de transfor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ó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mercados de usos fi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for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ón 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mercad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t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Programas de eficiencia energética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foque convencional: “Resource Acquisi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gramas introduz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atos 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tecno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 eficient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l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rocesos de pro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ión 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fíci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ay garantías que la reposición de aparatos sea con tecnologías eficient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renovables cuando se terminan los progra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Transformación de mercado de de energía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990" name=""/>
          <p:cNvSpPr/>
          <p:nvPr/>
        </p:nvSpPr>
        <p:spPr>
          <a:xfrm>
            <a:off x="17668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06360" y="227664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39760" y="227340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447640" y="26161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771720" y="26161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947760" y="2616120"/>
            <a:ext cx="70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723960" y="2627280"/>
            <a:ext cx="703080" cy="2957400"/>
            <a:chOff x="723960" y="2627280"/>
            <a:chExt cx="703080" cy="2957400"/>
          </a:xfrm>
        </p:grpSpPr>
        <p:sp>
          <p:nvSpPr>
            <p:cNvPr id="997" name=""/>
            <p:cNvSpPr/>
            <p:nvPr/>
          </p:nvSpPr>
          <p:spPr>
            <a:xfrm>
              <a:off x="723960" y="2627280"/>
              <a:ext cx="703080" cy="2957400"/>
            </a:xfrm>
            <a:custGeom>
              <a:avLst/>
              <a:gdLst/>
              <a:ahLst/>
              <a:rect l="l" t="t" r="r" b="b"/>
              <a:pathLst>
                <a:path w="885" h="1863">
                  <a:moveTo>
                    <a:pt x="885" y="0"/>
                  </a:moveTo>
                  <a:lnTo>
                    <a:pt x="839" y="2"/>
                  </a:lnTo>
                  <a:lnTo>
                    <a:pt x="795" y="4"/>
                  </a:lnTo>
                  <a:lnTo>
                    <a:pt x="751" y="8"/>
                  </a:lnTo>
                  <a:lnTo>
                    <a:pt x="707" y="15"/>
                  </a:lnTo>
                  <a:lnTo>
                    <a:pt x="664" y="23"/>
                  </a:lnTo>
                  <a:lnTo>
                    <a:pt x="622" y="32"/>
                  </a:lnTo>
                  <a:lnTo>
                    <a:pt x="581" y="43"/>
                  </a:lnTo>
                  <a:lnTo>
                    <a:pt x="540" y="56"/>
                  </a:lnTo>
                  <a:lnTo>
                    <a:pt x="502" y="70"/>
                  </a:lnTo>
                  <a:lnTo>
                    <a:pt x="463" y="85"/>
                  </a:lnTo>
                  <a:lnTo>
                    <a:pt x="426" y="103"/>
                  </a:lnTo>
                  <a:lnTo>
                    <a:pt x="391" y="122"/>
                  </a:lnTo>
                  <a:lnTo>
                    <a:pt x="356" y="140"/>
                  </a:lnTo>
                  <a:lnTo>
                    <a:pt x="323" y="161"/>
                  </a:lnTo>
                  <a:lnTo>
                    <a:pt x="290" y="184"/>
                  </a:lnTo>
                  <a:lnTo>
                    <a:pt x="260" y="208"/>
                  </a:lnTo>
                  <a:lnTo>
                    <a:pt x="231" y="232"/>
                  </a:lnTo>
                  <a:lnTo>
                    <a:pt x="203" y="257"/>
                  </a:lnTo>
                  <a:lnTo>
                    <a:pt x="151" y="312"/>
                  </a:lnTo>
                  <a:lnTo>
                    <a:pt x="107" y="369"/>
                  </a:lnTo>
                  <a:lnTo>
                    <a:pt x="87" y="400"/>
                  </a:lnTo>
                  <a:lnTo>
                    <a:pt x="70" y="432"/>
                  </a:lnTo>
                  <a:lnTo>
                    <a:pt x="53" y="464"/>
                  </a:lnTo>
                  <a:lnTo>
                    <a:pt x="41" y="496"/>
                  </a:lnTo>
                  <a:lnTo>
                    <a:pt x="28" y="530"/>
                  </a:lnTo>
                  <a:lnTo>
                    <a:pt x="18" y="564"/>
                  </a:lnTo>
                  <a:lnTo>
                    <a:pt x="11" y="598"/>
                  </a:lnTo>
                  <a:lnTo>
                    <a:pt x="5" y="634"/>
                  </a:lnTo>
                  <a:lnTo>
                    <a:pt x="2" y="670"/>
                  </a:lnTo>
                  <a:lnTo>
                    <a:pt x="0" y="706"/>
                  </a:lnTo>
                  <a:lnTo>
                    <a:pt x="0" y="925"/>
                  </a:lnTo>
                  <a:lnTo>
                    <a:pt x="4" y="982"/>
                  </a:lnTo>
                  <a:lnTo>
                    <a:pt x="11" y="1036"/>
                  </a:lnTo>
                  <a:lnTo>
                    <a:pt x="24" y="1090"/>
                  </a:lnTo>
                  <a:lnTo>
                    <a:pt x="42" y="1142"/>
                  </a:lnTo>
                  <a:lnTo>
                    <a:pt x="66" y="1193"/>
                  </a:lnTo>
                  <a:lnTo>
                    <a:pt x="94" y="1241"/>
                  </a:lnTo>
                  <a:lnTo>
                    <a:pt x="125" y="1289"/>
                  </a:lnTo>
                  <a:lnTo>
                    <a:pt x="162" y="1334"/>
                  </a:lnTo>
                  <a:lnTo>
                    <a:pt x="203" y="1376"/>
                  </a:lnTo>
                  <a:lnTo>
                    <a:pt x="247" y="1417"/>
                  </a:lnTo>
                  <a:lnTo>
                    <a:pt x="297" y="1454"/>
                  </a:lnTo>
                  <a:lnTo>
                    <a:pt x="349" y="1488"/>
                  </a:lnTo>
                  <a:lnTo>
                    <a:pt x="404" y="1519"/>
                  </a:lnTo>
                  <a:lnTo>
                    <a:pt x="463" y="1547"/>
                  </a:lnTo>
                  <a:lnTo>
                    <a:pt x="526" y="1571"/>
                  </a:lnTo>
                  <a:lnTo>
                    <a:pt x="590" y="1592"/>
                  </a:lnTo>
                  <a:lnTo>
                    <a:pt x="590" y="1863"/>
                  </a:lnTo>
                  <a:lnTo>
                    <a:pt x="885" y="1522"/>
                  </a:lnTo>
                  <a:lnTo>
                    <a:pt x="590" y="1102"/>
                  </a:lnTo>
                  <a:lnTo>
                    <a:pt x="590" y="1373"/>
                  </a:lnTo>
                  <a:lnTo>
                    <a:pt x="533" y="1355"/>
                  </a:lnTo>
                  <a:lnTo>
                    <a:pt x="480" y="1334"/>
                  </a:lnTo>
                  <a:lnTo>
                    <a:pt x="428" y="1311"/>
                  </a:lnTo>
                  <a:lnTo>
                    <a:pt x="378" y="1286"/>
                  </a:lnTo>
                  <a:lnTo>
                    <a:pt x="330" y="1257"/>
                  </a:lnTo>
                  <a:lnTo>
                    <a:pt x="286" y="1226"/>
                  </a:lnTo>
                  <a:lnTo>
                    <a:pt x="243" y="1193"/>
                  </a:lnTo>
                  <a:lnTo>
                    <a:pt x="205" y="1159"/>
                  </a:lnTo>
                  <a:lnTo>
                    <a:pt x="168" y="1121"/>
                  </a:lnTo>
                  <a:lnTo>
                    <a:pt x="135" y="1083"/>
                  </a:lnTo>
                  <a:lnTo>
                    <a:pt x="105" y="1042"/>
                  </a:lnTo>
                  <a:lnTo>
                    <a:pt x="79" y="999"/>
                  </a:lnTo>
                  <a:lnTo>
                    <a:pt x="57" y="955"/>
                  </a:lnTo>
                  <a:lnTo>
                    <a:pt x="37" y="910"/>
                  </a:lnTo>
                  <a:lnTo>
                    <a:pt x="22" y="864"/>
                  </a:lnTo>
                  <a:lnTo>
                    <a:pt x="11" y="816"/>
                  </a:lnTo>
                  <a:lnTo>
                    <a:pt x="11" y="816"/>
                  </a:lnTo>
                  <a:lnTo>
                    <a:pt x="28" y="754"/>
                  </a:lnTo>
                  <a:lnTo>
                    <a:pt x="50" y="692"/>
                  </a:lnTo>
                  <a:lnTo>
                    <a:pt x="79" y="634"/>
                  </a:lnTo>
                  <a:lnTo>
                    <a:pt x="114" y="579"/>
                  </a:lnTo>
                  <a:lnTo>
                    <a:pt x="155" y="526"/>
                  </a:lnTo>
                  <a:lnTo>
                    <a:pt x="203" y="476"/>
                  </a:lnTo>
                  <a:lnTo>
                    <a:pt x="255" y="431"/>
                  </a:lnTo>
                  <a:lnTo>
                    <a:pt x="310" y="389"/>
                  </a:lnTo>
                  <a:lnTo>
                    <a:pt x="371" y="352"/>
                  </a:lnTo>
                  <a:lnTo>
                    <a:pt x="402" y="334"/>
                  </a:lnTo>
                  <a:lnTo>
                    <a:pt x="435" y="318"/>
                  </a:lnTo>
                  <a:lnTo>
                    <a:pt x="469" y="303"/>
                  </a:lnTo>
                  <a:lnTo>
                    <a:pt x="504" y="289"/>
                  </a:lnTo>
                  <a:lnTo>
                    <a:pt x="539" y="276"/>
                  </a:lnTo>
                  <a:lnTo>
                    <a:pt x="574" y="265"/>
                  </a:lnTo>
                  <a:lnTo>
                    <a:pt x="611" y="254"/>
                  </a:lnTo>
                  <a:lnTo>
                    <a:pt x="649" y="245"/>
                  </a:lnTo>
                  <a:lnTo>
                    <a:pt x="686" y="237"/>
                  </a:lnTo>
                  <a:lnTo>
                    <a:pt x="725" y="232"/>
                  </a:lnTo>
                  <a:lnTo>
                    <a:pt x="766" y="226"/>
                  </a:lnTo>
                  <a:lnTo>
                    <a:pt x="804" y="223"/>
                  </a:lnTo>
                  <a:lnTo>
                    <a:pt x="845" y="221"/>
                  </a:lnTo>
                  <a:lnTo>
                    <a:pt x="885" y="220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3960" y="2627280"/>
              <a:ext cx="703080" cy="1468440"/>
            </a:xfrm>
            <a:custGeom>
              <a:avLst/>
              <a:gdLst/>
              <a:ahLst/>
              <a:rect l="l" t="t" r="r" b="b"/>
              <a:pathLst>
                <a:path w="885" h="925">
                  <a:moveTo>
                    <a:pt x="885" y="0"/>
                  </a:moveTo>
                  <a:lnTo>
                    <a:pt x="839" y="2"/>
                  </a:lnTo>
                  <a:lnTo>
                    <a:pt x="795" y="4"/>
                  </a:lnTo>
                  <a:lnTo>
                    <a:pt x="751" y="8"/>
                  </a:lnTo>
                  <a:lnTo>
                    <a:pt x="707" y="15"/>
                  </a:lnTo>
                  <a:lnTo>
                    <a:pt x="664" y="23"/>
                  </a:lnTo>
                  <a:lnTo>
                    <a:pt x="622" y="32"/>
                  </a:lnTo>
                  <a:lnTo>
                    <a:pt x="581" y="43"/>
                  </a:lnTo>
                  <a:lnTo>
                    <a:pt x="540" y="56"/>
                  </a:lnTo>
                  <a:lnTo>
                    <a:pt x="502" y="70"/>
                  </a:lnTo>
                  <a:lnTo>
                    <a:pt x="463" y="85"/>
                  </a:lnTo>
                  <a:lnTo>
                    <a:pt x="426" y="103"/>
                  </a:lnTo>
                  <a:lnTo>
                    <a:pt x="391" y="122"/>
                  </a:lnTo>
                  <a:lnTo>
                    <a:pt x="356" y="140"/>
                  </a:lnTo>
                  <a:lnTo>
                    <a:pt x="323" y="161"/>
                  </a:lnTo>
                  <a:lnTo>
                    <a:pt x="290" y="184"/>
                  </a:lnTo>
                  <a:lnTo>
                    <a:pt x="260" y="208"/>
                  </a:lnTo>
                  <a:lnTo>
                    <a:pt x="231" y="232"/>
                  </a:lnTo>
                  <a:lnTo>
                    <a:pt x="203" y="257"/>
                  </a:lnTo>
                  <a:lnTo>
                    <a:pt x="151" y="312"/>
                  </a:lnTo>
                  <a:lnTo>
                    <a:pt x="107" y="369"/>
                  </a:lnTo>
                  <a:lnTo>
                    <a:pt x="87" y="400"/>
                  </a:lnTo>
                  <a:lnTo>
                    <a:pt x="70" y="432"/>
                  </a:lnTo>
                  <a:lnTo>
                    <a:pt x="53" y="464"/>
                  </a:lnTo>
                  <a:lnTo>
                    <a:pt x="41" y="496"/>
                  </a:lnTo>
                  <a:lnTo>
                    <a:pt x="28" y="530"/>
                  </a:lnTo>
                  <a:lnTo>
                    <a:pt x="18" y="564"/>
                  </a:lnTo>
                  <a:lnTo>
                    <a:pt x="11" y="598"/>
                  </a:lnTo>
                  <a:lnTo>
                    <a:pt x="5" y="634"/>
                  </a:lnTo>
                  <a:lnTo>
                    <a:pt x="2" y="670"/>
                  </a:lnTo>
                  <a:lnTo>
                    <a:pt x="0" y="706"/>
                  </a:lnTo>
                  <a:lnTo>
                    <a:pt x="0" y="925"/>
                  </a:lnTo>
                  <a:lnTo>
                    <a:pt x="2" y="889"/>
                  </a:lnTo>
                  <a:lnTo>
                    <a:pt x="5" y="853"/>
                  </a:lnTo>
                  <a:lnTo>
                    <a:pt x="11" y="818"/>
                  </a:lnTo>
                  <a:lnTo>
                    <a:pt x="18" y="783"/>
                  </a:lnTo>
                  <a:lnTo>
                    <a:pt x="28" y="749"/>
                  </a:lnTo>
                  <a:lnTo>
                    <a:pt x="41" y="715"/>
                  </a:lnTo>
                  <a:lnTo>
                    <a:pt x="53" y="683"/>
                  </a:lnTo>
                  <a:lnTo>
                    <a:pt x="70" y="651"/>
                  </a:lnTo>
                  <a:lnTo>
                    <a:pt x="87" y="619"/>
                  </a:lnTo>
                  <a:lnTo>
                    <a:pt x="107" y="589"/>
                  </a:lnTo>
                  <a:lnTo>
                    <a:pt x="151" y="531"/>
                  </a:lnTo>
                  <a:lnTo>
                    <a:pt x="203" y="476"/>
                  </a:lnTo>
                  <a:lnTo>
                    <a:pt x="231" y="451"/>
                  </a:lnTo>
                  <a:lnTo>
                    <a:pt x="260" y="427"/>
                  </a:lnTo>
                  <a:lnTo>
                    <a:pt x="290" y="404"/>
                  </a:lnTo>
                  <a:lnTo>
                    <a:pt x="323" y="380"/>
                  </a:lnTo>
                  <a:lnTo>
                    <a:pt x="356" y="359"/>
                  </a:lnTo>
                  <a:lnTo>
                    <a:pt x="391" y="341"/>
                  </a:lnTo>
                  <a:lnTo>
                    <a:pt x="426" y="322"/>
                  </a:lnTo>
                  <a:lnTo>
                    <a:pt x="463" y="304"/>
                  </a:lnTo>
                  <a:lnTo>
                    <a:pt x="502" y="289"/>
                  </a:lnTo>
                  <a:lnTo>
                    <a:pt x="540" y="275"/>
                  </a:lnTo>
                  <a:lnTo>
                    <a:pt x="581" y="263"/>
                  </a:lnTo>
                  <a:lnTo>
                    <a:pt x="622" y="252"/>
                  </a:lnTo>
                  <a:lnTo>
                    <a:pt x="664" y="242"/>
                  </a:lnTo>
                  <a:lnTo>
                    <a:pt x="707" y="234"/>
                  </a:lnTo>
                  <a:lnTo>
                    <a:pt x="751" y="227"/>
                  </a:lnTo>
                  <a:lnTo>
                    <a:pt x="795" y="223"/>
                  </a:lnTo>
                  <a:lnTo>
                    <a:pt x="839" y="221"/>
                  </a:lnTo>
                  <a:lnTo>
                    <a:pt x="885" y="220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cdcd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23960" y="2627280"/>
              <a:ext cx="703080" cy="2957400"/>
            </a:xfrm>
            <a:custGeom>
              <a:avLst/>
              <a:gdLst/>
              <a:ahLst/>
              <a:rect l="l" t="t" r="r" b="b"/>
              <a:pathLst>
                <a:path w="885" h="1863">
                  <a:moveTo>
                    <a:pt x="885" y="0"/>
                  </a:moveTo>
                  <a:lnTo>
                    <a:pt x="839" y="2"/>
                  </a:lnTo>
                  <a:lnTo>
                    <a:pt x="795" y="4"/>
                  </a:lnTo>
                  <a:lnTo>
                    <a:pt x="751" y="8"/>
                  </a:lnTo>
                  <a:lnTo>
                    <a:pt x="707" y="15"/>
                  </a:lnTo>
                  <a:lnTo>
                    <a:pt x="664" y="23"/>
                  </a:lnTo>
                  <a:lnTo>
                    <a:pt x="622" y="32"/>
                  </a:lnTo>
                  <a:lnTo>
                    <a:pt x="581" y="43"/>
                  </a:lnTo>
                  <a:lnTo>
                    <a:pt x="540" y="56"/>
                  </a:lnTo>
                  <a:lnTo>
                    <a:pt x="502" y="70"/>
                  </a:lnTo>
                  <a:lnTo>
                    <a:pt x="463" y="85"/>
                  </a:lnTo>
                  <a:lnTo>
                    <a:pt x="426" y="103"/>
                  </a:lnTo>
                  <a:lnTo>
                    <a:pt x="391" y="122"/>
                  </a:lnTo>
                  <a:lnTo>
                    <a:pt x="356" y="140"/>
                  </a:lnTo>
                  <a:lnTo>
                    <a:pt x="323" y="161"/>
                  </a:lnTo>
                  <a:lnTo>
                    <a:pt x="290" y="184"/>
                  </a:lnTo>
                  <a:lnTo>
                    <a:pt x="260" y="208"/>
                  </a:lnTo>
                  <a:lnTo>
                    <a:pt x="231" y="232"/>
                  </a:lnTo>
                  <a:lnTo>
                    <a:pt x="203" y="257"/>
                  </a:lnTo>
                  <a:lnTo>
                    <a:pt x="151" y="312"/>
                  </a:lnTo>
                  <a:lnTo>
                    <a:pt x="107" y="369"/>
                  </a:lnTo>
                  <a:lnTo>
                    <a:pt x="87" y="400"/>
                  </a:lnTo>
                  <a:lnTo>
                    <a:pt x="70" y="432"/>
                  </a:lnTo>
                  <a:lnTo>
                    <a:pt x="53" y="464"/>
                  </a:lnTo>
                  <a:lnTo>
                    <a:pt x="41" y="496"/>
                  </a:lnTo>
                  <a:lnTo>
                    <a:pt x="28" y="530"/>
                  </a:lnTo>
                  <a:lnTo>
                    <a:pt x="18" y="564"/>
                  </a:lnTo>
                  <a:lnTo>
                    <a:pt x="11" y="598"/>
                  </a:lnTo>
                  <a:lnTo>
                    <a:pt x="5" y="634"/>
                  </a:lnTo>
                  <a:lnTo>
                    <a:pt x="2" y="670"/>
                  </a:lnTo>
                  <a:lnTo>
                    <a:pt x="0" y="706"/>
                  </a:lnTo>
                  <a:lnTo>
                    <a:pt x="0" y="925"/>
                  </a:lnTo>
                  <a:lnTo>
                    <a:pt x="4" y="982"/>
                  </a:lnTo>
                  <a:lnTo>
                    <a:pt x="11" y="1036"/>
                  </a:lnTo>
                  <a:lnTo>
                    <a:pt x="24" y="1090"/>
                  </a:lnTo>
                  <a:lnTo>
                    <a:pt x="42" y="1142"/>
                  </a:lnTo>
                  <a:lnTo>
                    <a:pt x="66" y="1193"/>
                  </a:lnTo>
                  <a:lnTo>
                    <a:pt x="94" y="1241"/>
                  </a:lnTo>
                  <a:lnTo>
                    <a:pt x="125" y="1289"/>
                  </a:lnTo>
                  <a:lnTo>
                    <a:pt x="162" y="1334"/>
                  </a:lnTo>
                  <a:lnTo>
                    <a:pt x="203" y="1376"/>
                  </a:lnTo>
                  <a:lnTo>
                    <a:pt x="247" y="1417"/>
                  </a:lnTo>
                  <a:lnTo>
                    <a:pt x="297" y="1454"/>
                  </a:lnTo>
                  <a:lnTo>
                    <a:pt x="349" y="1488"/>
                  </a:lnTo>
                  <a:lnTo>
                    <a:pt x="404" y="1519"/>
                  </a:lnTo>
                  <a:lnTo>
                    <a:pt x="463" y="1547"/>
                  </a:lnTo>
                  <a:lnTo>
                    <a:pt x="526" y="1571"/>
                  </a:lnTo>
                  <a:lnTo>
                    <a:pt x="590" y="1592"/>
                  </a:lnTo>
                  <a:lnTo>
                    <a:pt x="590" y="1863"/>
                  </a:lnTo>
                  <a:lnTo>
                    <a:pt x="885" y="1522"/>
                  </a:lnTo>
                  <a:lnTo>
                    <a:pt x="590" y="1102"/>
                  </a:lnTo>
                  <a:lnTo>
                    <a:pt x="590" y="1373"/>
                  </a:lnTo>
                  <a:lnTo>
                    <a:pt x="533" y="1355"/>
                  </a:lnTo>
                  <a:lnTo>
                    <a:pt x="480" y="1334"/>
                  </a:lnTo>
                  <a:lnTo>
                    <a:pt x="428" y="1311"/>
                  </a:lnTo>
                  <a:lnTo>
                    <a:pt x="378" y="1286"/>
                  </a:lnTo>
                  <a:lnTo>
                    <a:pt x="330" y="1257"/>
                  </a:lnTo>
                  <a:lnTo>
                    <a:pt x="286" y="1226"/>
                  </a:lnTo>
                  <a:lnTo>
                    <a:pt x="243" y="1193"/>
                  </a:lnTo>
                  <a:lnTo>
                    <a:pt x="205" y="1159"/>
                  </a:lnTo>
                  <a:lnTo>
                    <a:pt x="168" y="1121"/>
                  </a:lnTo>
                  <a:lnTo>
                    <a:pt x="135" y="1083"/>
                  </a:lnTo>
                  <a:lnTo>
                    <a:pt x="105" y="1042"/>
                  </a:lnTo>
                  <a:lnTo>
                    <a:pt x="79" y="999"/>
                  </a:lnTo>
                  <a:lnTo>
                    <a:pt x="57" y="955"/>
                  </a:lnTo>
                  <a:lnTo>
                    <a:pt x="37" y="910"/>
                  </a:lnTo>
                  <a:lnTo>
                    <a:pt x="22" y="864"/>
                  </a:lnTo>
                  <a:lnTo>
                    <a:pt x="11" y="816"/>
                  </a:lnTo>
                  <a:lnTo>
                    <a:pt x="11" y="816"/>
                  </a:lnTo>
                  <a:lnTo>
                    <a:pt x="28" y="754"/>
                  </a:lnTo>
                  <a:lnTo>
                    <a:pt x="50" y="692"/>
                  </a:lnTo>
                  <a:lnTo>
                    <a:pt x="79" y="634"/>
                  </a:lnTo>
                  <a:lnTo>
                    <a:pt x="114" y="579"/>
                  </a:lnTo>
                  <a:lnTo>
                    <a:pt x="155" y="526"/>
                  </a:lnTo>
                  <a:lnTo>
                    <a:pt x="203" y="476"/>
                  </a:lnTo>
                  <a:lnTo>
                    <a:pt x="255" y="431"/>
                  </a:lnTo>
                  <a:lnTo>
                    <a:pt x="310" y="389"/>
                  </a:lnTo>
                  <a:lnTo>
                    <a:pt x="371" y="352"/>
                  </a:lnTo>
                  <a:lnTo>
                    <a:pt x="402" y="334"/>
                  </a:lnTo>
                  <a:lnTo>
                    <a:pt x="435" y="318"/>
                  </a:lnTo>
                  <a:lnTo>
                    <a:pt x="469" y="303"/>
                  </a:lnTo>
                  <a:lnTo>
                    <a:pt x="504" y="289"/>
                  </a:lnTo>
                  <a:lnTo>
                    <a:pt x="539" y="276"/>
                  </a:lnTo>
                  <a:lnTo>
                    <a:pt x="574" y="265"/>
                  </a:lnTo>
                  <a:lnTo>
                    <a:pt x="611" y="254"/>
                  </a:lnTo>
                  <a:lnTo>
                    <a:pt x="649" y="245"/>
                  </a:lnTo>
                  <a:lnTo>
                    <a:pt x="686" y="237"/>
                  </a:lnTo>
                  <a:lnTo>
                    <a:pt x="725" y="232"/>
                  </a:lnTo>
                  <a:lnTo>
                    <a:pt x="766" y="226"/>
                  </a:lnTo>
                  <a:lnTo>
                    <a:pt x="804" y="223"/>
                  </a:lnTo>
                  <a:lnTo>
                    <a:pt x="845" y="221"/>
                  </a:lnTo>
                  <a:lnTo>
                    <a:pt x="885" y="220"/>
                  </a:lnTo>
                  <a:lnTo>
                    <a:pt x="88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23960" y="3922560"/>
              <a:ext cx="9360" cy="173160"/>
            </a:xfrm>
            <a:custGeom>
              <a:avLst/>
              <a:gdLst/>
              <a:ahLst/>
              <a:rect l="l" t="t" r="r" b="b"/>
              <a:pathLst>
                <a:path w="11" h="109">
                  <a:moveTo>
                    <a:pt x="0" y="109"/>
                  </a:moveTo>
                  <a:lnTo>
                    <a:pt x="4" y="56"/>
                  </a:lnTo>
                  <a:lnTo>
                    <a:pt x="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566720" y="4222800"/>
            <a:ext cx="3005280" cy="2019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654560" y="4387680"/>
            <a:ext cx="197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692000" y="489600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725840" y="4890960"/>
            <a:ext cx="182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s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692000" y="519732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726560" y="519264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form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692000" y="550080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746000" y="5486400"/>
            <a:ext cx="236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os de trans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692000" y="5802480"/>
            <a:ext cx="8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723680" y="5797440"/>
            <a:ext cx="25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cess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2209680"/>
            <a:ext cx="693432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ación de merca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és un proceso que permite resolv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 impidem el desarollo de productos y servicios de eficiencia energética o de energia renovable de manera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724280" y="4038480"/>
            <a:ext cx="3429000" cy="2057400"/>
          </a:xfrm>
          <a:prstGeom prst="leftArrowCallout">
            <a:avLst>
              <a:gd name="adj1" fmla="val 25002"/>
              <a:gd name="adj2" fmla="val 25000"/>
              <a:gd name="adj3" fmla="val 27778"/>
              <a:gd name="adj4" fmla="val 666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019920" y="4114800"/>
            <a:ext cx="198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 mecanismos de mercado para super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Transformación de mercado: definicion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 estratégias para remoción de barreras y cambiar permanentemente la estrucutra de um mercado (sales shar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ratégias para garantizr que la utilización de productos y serviccios eficientes sea practica normal d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Barrera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lta de informação e de conhecimento sobre o produto ou benefícios do consumid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ponibilidade limitada e precária do produ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usto inicial elevado de compra ou de fabricação do produto eficient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Barreras (2)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torções dos preços da energ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são ao risco apresentado por novas tecnologias ou prátic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áticas e estruturas de mercado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cesso limitado ao capi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Comparación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21" name=""/>
          <p:cNvSpPr/>
          <p:nvPr/>
        </p:nvSpPr>
        <p:spPr>
          <a:xfrm>
            <a:off x="176688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143000" y="2743200"/>
            <a:ext cx="2971800" cy="11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445400" y="2895480"/>
            <a:ext cx="23860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imes New Roman"/>
              </a:rPr>
              <a:t>Transforma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ció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980720" y="3352680"/>
            <a:ext cx="13158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34120" y="2709720"/>
            <a:ext cx="3352680" cy="117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345720" y="2689200"/>
            <a:ext cx="14882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23080" y="3105000"/>
            <a:ext cx="2004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715000" y="3505320"/>
            <a:ext cx="2653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Times New Roman"/>
              </a:rPr>
              <a:t>Efici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t-BR" sz="2300" spc="-1" strike="noStrike">
                <a:solidFill>
                  <a:srgbClr val="000000"/>
                </a:solidFill>
                <a:latin typeface="Times New Roman"/>
              </a:rPr>
              <a:t>ncia Energétic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4120" y="4238640"/>
            <a:ext cx="309096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20200" y="432288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92280" y="4322880"/>
            <a:ext cx="1321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steni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20200" y="469728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98400" y="4697280"/>
            <a:ext cx="406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ciones limitadas en el tiemp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0200" y="507204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8400" y="5072040"/>
            <a:ext cx="3490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Orientado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acia el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 merca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520200" y="544680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94000" y="5446800"/>
            <a:ext cx="139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58120" y="5446800"/>
            <a:ext cx="1619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rgo Pl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645160" y="4233960"/>
            <a:ext cx="3192480" cy="16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781240" y="431784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841000" y="4317840"/>
            <a:ext cx="149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Temporári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781240" y="469260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722200" y="4692600"/>
            <a:ext cx="264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Horizonte indefinid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81240" y="506736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54760" y="5067360"/>
            <a:ext cx="306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Financiado  consumido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81240" y="5443560"/>
            <a:ext cx="111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53240" y="5443560"/>
            <a:ext cx="1392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318440" y="5443560"/>
            <a:ext cx="158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rto 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500" spc="-1" strike="noStrike">
                <a:solidFill>
                  <a:srgbClr val="000000"/>
                </a:solidFill>
                <a:latin typeface="Times New Roman"/>
              </a:rPr>
              <a:t>az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6400800" y="2590920"/>
            <a:ext cx="2209680" cy="36576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657600"/>
              <a:gd name="textAreaBottom" fmla="*/ 3549960 h 3657600"/>
            </a:gdLst>
            <a:ahLst/>
            <a:rect l="textAreaLeft" t="textAreaTop" r="textAreaRight" b="textAreaBottom"/>
            <a:pathLst>
              <a:path w="21600" h="35751">
                <a:moveTo>
                  <a:pt x="3600" y="0"/>
                </a:moveTo>
                <a:arcTo wR="3600" hR="3600" stAng="16200000" swAng="-5400000"/>
                <a:lnTo>
                  <a:pt x="0" y="32151"/>
                </a:lnTo>
                <a:arcTo wR="3600" hR="3600" stAng="10800000" swAng="-5400000"/>
                <a:lnTo>
                  <a:pt x="18000" y="357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629400" y="2666880"/>
            <a:ext cx="1295280" cy="335304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Politicas publicas y transformación de mercad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52" name=""/>
          <p:cNvSpPr/>
          <p:nvPr/>
        </p:nvSpPr>
        <p:spPr>
          <a:xfrm>
            <a:off x="2590920" y="3581280"/>
            <a:ext cx="2819160" cy="14479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819520" y="3962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ción de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0880" y="3505320"/>
            <a:ext cx="190512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295280" y="2743200"/>
            <a:ext cx="1828800" cy="53352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219320" y="5410080"/>
            <a:ext cx="2057400" cy="38124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09480" y="19051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égia de Entrada/Interven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égia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33520" y="38862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bierno - Regu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5530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77120" y="5486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81680" y="48006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562720" y="4114800"/>
            <a:ext cx="685800" cy="457200"/>
          </a:xfrm>
          <a:prstGeom prst="leftRightArrow">
            <a:avLst>
              <a:gd name="adj1" fmla="val 50000"/>
              <a:gd name="adj2" fmla="val 298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7816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00800" y="6400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cado 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Actor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resas de electricidad: Distribuicion (IMPLANTAC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de equipos, comercio, marketing, ESCOs (distribuición de productos y servic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ionales: arquitectos, enginieros, (concepcion de productos y a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stratégia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ción y Desaroll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monst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ones y test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entiv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comercializació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rketing e edu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ón del consumid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centivos finan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i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romissos voluntários (agentes de mercad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pra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ro may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ódigos de Obras (Edif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on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ódigos e pad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efi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ci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quip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Programas de TM necesitan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er estimativas de la evolución del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mercado 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un programa TM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dentific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ón de las barrer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de merc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imativa de benefícios.  Indicador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o en el mercado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ciones para el regulador de servicios de electricidad. Cuál puede ser su rol y de las empre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Reformas y la Eficiencia energética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tes cambios en la industria de electr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definicion del rol del agente público en la promoción de la eficien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queda de mecanismos de mercado para la eficiencia energ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ortunidades y amenazas para la efic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ligir usos finais que interesan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os que presentem 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r percentual de p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tos e modelos eficient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merca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 mayor potencial de ahorr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energia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o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rodutos eficient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pres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 mayor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re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de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s (por 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r e sub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r consumidor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sos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q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oferta/disponibilidae de pro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s eficient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e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mercado local se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ás ampli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ligir usos finais que interesan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em que a oferta/disponibilidade de produtos eficientes no mercado internacional seja a mais dinâ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cuja demanda por produtos eficientes gere a maior quantidade de empregos no Bras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que apresentem a mais rápida condição de penetração no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ligir sectores consumidor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r consumidor em que a introdução de produtos eficientes promova a maior economia de energi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tor consumidor em que a introdução de produtos eficientes represente a maior redução de cus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scolha dos setores consumidor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tor consumidor mais sensível à concorrência internacional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etor consumidor em que a implantação do programa tenha efeitos econômicos (de emprego, pelo aumento das vendas) e fiscais (de geração de receita, pelo aumento das vendas decorrentes da redução no custo da energia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Seleccion de áreas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as de concessão com maior mercado dos setores (e subsetores)  que apresentam o maior potencial de eficiência energét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as de concessão com melhores condições econômicas para a implantação de um programa de transformação de mercado de médio praz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  <a:ea typeface="Times New Roman"/>
              </a:rPr>
              <a:t>Seleccion de área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as de concessão com melhor distribuição dos produtos e modelos eficientes a serem implantados nos setores com maior potencial de eficiência energét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as de concessão em que a oferta/disponibilidade de produtos eficientes no mercado local seja a mais acessí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  <a:ea typeface="Times New Roman"/>
              </a:rPr>
              <a:t>Seleccion de área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as de concessão em que a implantação do programa tenha efeitos econômicos (de emprego) e fiscais (de redução do custo de equipamentos e serviços eficientes) mais significativos e substanci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Areas de concessão que apresentem a mais rápida condição de penetração no mercado para os usos e subsetores selecio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Avaliação dos programas de transformação de mercado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tes da implantação do programa, deve haver uma negociação junto aos participantes para determinar os padrões e critérios que serão aplicados na avali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rminação do nível de eficiência da baseline e definição dos indicadores de merc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nitoramento das economias de energia e da evolução dos indicadores de mercado durante o progra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o final do programa, avaliação das economias de energia e dos impactos de transformação de merc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Resumen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89" name=""/>
          <p:cNvSpPr/>
          <p:nvPr/>
        </p:nvSpPr>
        <p:spPr>
          <a:xfrm>
            <a:off x="176688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1766880" y="2181240"/>
            <a:ext cx="56102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Promoção da sustentabilidade do mercado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tag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 a eficiência do estoque de equipamentos n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e que o apoio externo a iniciativas em EE seja reduzido. 1% deslocado a outras iniciativas mais complex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 ligh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r tempo para que resultados apareçam e uma estratégia de retirada de apo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sm-eras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volución de mecanismos para EE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nte: Clarke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as de transformacion de mercados de ener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Impact of California DSM Programs and Standard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Average Electricity Consumption of New U.S. Refrigerators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098" name=""/>
          <p:cNvSpPr/>
          <p:nvPr/>
        </p:nvSpPr>
        <p:spPr>
          <a:xfrm>
            <a:off x="212400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2124000" y="1876320"/>
            <a:ext cx="4896000" cy="310536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990720" y="563868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 Geller and Goldstein 1998; Nadel 2002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1" name=""/>
          <p:cNvGraphicFramePr/>
          <p:nvPr/>
        </p:nvGraphicFramePr>
        <p:xfrm>
          <a:off x="609480" y="533520"/>
          <a:ext cx="7925040" cy="5938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533520"/>
                    <a:ext cx="7925040" cy="59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"/>
          <p:cNvSpPr/>
          <p:nvPr/>
        </p:nvSpPr>
        <p:spPr>
          <a:xfrm>
            <a:off x="45720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sil: Programa del etanol carb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85800" y="5486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ción de un mercado: reduccion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Padrões (S) e Selos (L) para Equipamentos Comun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838080" y="2057400"/>
          <a:ext cx="7848720" cy="4451400"/>
        </p:xfrm>
        <a:graphic>
          <a:graphicData uri="http://schemas.openxmlformats.org/drawingml/2006/table">
            <a:tbl>
              <a:tblPr/>
              <a:tblGrid>
                <a:gridCol w="914400"/>
                <a:gridCol w="582840"/>
                <a:gridCol w="595080"/>
                <a:gridCol w="598680"/>
                <a:gridCol w="598320"/>
                <a:gridCol w="598680"/>
                <a:gridCol w="596880"/>
                <a:gridCol w="598320"/>
                <a:gridCol w="598680"/>
                <a:gridCol w="522360"/>
                <a:gridCol w="523800"/>
                <a:gridCol w="522360"/>
                <a:gridCol w="59832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friger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 Condicion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dora de Rou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z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lla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âmp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adoras de Rou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ecedores de Á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dora de Louç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s/Fo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t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 Condicionado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d59">
                        <a:alpha val="50000"/>
                      </a:srgbClr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7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9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éia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9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ilândia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9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9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9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xico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f9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(m)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ndia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9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f92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(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Equipamentos ou Utensílios Regulados por Vários Países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1109" name=""/>
          <p:cNvGraphicFramePr/>
          <p:nvPr/>
        </p:nvGraphicFramePr>
        <p:xfrm>
          <a:off x="976320" y="2057400"/>
          <a:ext cx="7634160" cy="4819680"/>
        </p:xfrm>
        <a:graphic>
          <a:graphicData uri="http://schemas.openxmlformats.org/drawingml/2006/table">
            <a:tbl>
              <a:tblPr/>
              <a:tblGrid>
                <a:gridCol w="1519200"/>
                <a:gridCol w="1457280"/>
                <a:gridCol w="1451160"/>
                <a:gridCol w="1517400"/>
                <a:gridCol w="1689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os Voluntá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drões Voluntá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os Obrig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drões Obrigato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éia do S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Í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ilân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ad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0" name=""/>
          <p:cNvGraphicFramePr/>
          <p:nvPr/>
        </p:nvGraphicFramePr>
        <p:xfrm>
          <a:off x="1501920" y="1851120"/>
          <a:ext cx="7916760" cy="47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51120"/>
                    <a:ext cx="791676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2" name=""/>
          <p:cNvSpPr/>
          <p:nvPr/>
        </p:nvSpPr>
        <p:spPr>
          <a:xfrm>
            <a:off x="4803840" y="1447920"/>
            <a:ext cx="171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55520" y="1066680"/>
            <a:ext cx="759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 MT Extra Bold"/>
              </a:rPr>
              <a:t>Exemplo, U.S.: Fatores de energia de Lavadoras de Roupas depois dos padrões de </a:t>
            </a:r>
            <a:r>
              <a:rPr b="0" lang="en-US" sz="4400" spc="-1" strike="noStrike">
                <a:solidFill>
                  <a:srgbClr val="000000"/>
                </a:solidFill>
                <a:latin typeface="Times New Roman MT Extra Bold"/>
              </a:rPr>
              <a:t>19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492120" y="1725480"/>
            <a:ext cx="7791120" cy="5284800"/>
            <a:chOff x="492120" y="1725480"/>
            <a:chExt cx="7791120" cy="5284800"/>
          </a:xfrm>
        </p:grpSpPr>
        <p:sp>
          <p:nvSpPr>
            <p:cNvPr id="1115" name=""/>
            <p:cNvSpPr/>
            <p:nvPr/>
          </p:nvSpPr>
          <p:spPr>
            <a:xfrm>
              <a:off x="119520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33840" y="655308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72920" y="1725480"/>
              <a:ext cx="6599160" cy="47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386680" y="220932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929480" y="228600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drão de 19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008960" y="6553080"/>
              <a:ext cx="269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ator de Energia (ft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/kWh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92120" y="3429000"/>
              <a:ext cx="1125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rcentagem de Mode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28440" y="6292800"/>
              <a:ext cx="195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ourtesy of CLASP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Exemplo da Tailândia: Selos Levou a Padrõ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ções Apren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os voluntários podem transformar o mercado se acompanhados de promoção maciça e publi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os voluntários têm limitações se o mercado não for homogêneo (ex. Thai A/C indus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tremamente custo ef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~ 1.1 US cents/kWh -- custo de energia economizada (C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o de Energia (e programas de DSM) pavimentaram o caminho para MEPS na Tailân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Exemplo Tailandês: Efeitos de Selos Obrigatóri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484280" y="2211480"/>
            <a:ext cx="6643800" cy="4243320"/>
            <a:chOff x="1484280" y="2211480"/>
            <a:chExt cx="6643800" cy="4243320"/>
          </a:xfrm>
        </p:grpSpPr>
        <p:sp>
          <p:nvSpPr>
            <p:cNvPr id="1127" name=""/>
            <p:cNvSpPr/>
            <p:nvPr/>
          </p:nvSpPr>
          <p:spPr>
            <a:xfrm>
              <a:off x="1484280" y="2211480"/>
              <a:ext cx="6643800" cy="4243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263680" y="2548080"/>
              <a:ext cx="1080" cy="2768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215440" y="5316480"/>
              <a:ext cx="47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15440" y="4622760"/>
              <a:ext cx="47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15440" y="3933720"/>
              <a:ext cx="478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15440" y="3241800"/>
              <a:ext cx="47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15440" y="2548080"/>
              <a:ext cx="478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63680" y="5316480"/>
              <a:ext cx="53467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226368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V="1">
              <a:off x="270936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3154680" y="5316120"/>
              <a:ext cx="144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3598560" y="5316120"/>
              <a:ext cx="144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404424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V="1">
              <a:off x="4489200" y="5316120"/>
              <a:ext cx="144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94100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538488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5830200" y="5316120"/>
              <a:ext cx="144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27588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71976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7165440" y="5316120"/>
              <a:ext cx="108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7610400" y="5316120"/>
              <a:ext cx="1440" cy="42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263680" y="2960640"/>
              <a:ext cx="445320" cy="281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09360" y="3241800"/>
              <a:ext cx="444960" cy="109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154680" y="3351240"/>
              <a:ext cx="443880" cy="638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598560" y="3989520"/>
              <a:ext cx="44532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044240" y="4071960"/>
              <a:ext cx="44496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489200" y="4098960"/>
              <a:ext cx="451440" cy="2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941000" y="4127400"/>
              <a:ext cx="443880" cy="8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84880" y="4210200"/>
              <a:ext cx="444960" cy="5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830200" y="4264200"/>
              <a:ext cx="44532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275880" y="4319640"/>
              <a:ext cx="4438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19760" y="4346640"/>
              <a:ext cx="445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165440" y="4346640"/>
              <a:ext cx="444960" cy="55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246040" y="2943360"/>
              <a:ext cx="363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2" y="0"/>
                  </a:moveTo>
                  <a:lnTo>
                    <a:pt x="25" y="11"/>
                  </a:lnTo>
                  <a:lnTo>
                    <a:pt x="12" y="21"/>
                  </a:lnTo>
                  <a:lnTo>
                    <a:pt x="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89920" y="3224160"/>
              <a:ext cx="363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3" y="0"/>
                  </a:moveTo>
                  <a:lnTo>
                    <a:pt x="25" y="11"/>
                  </a:lnTo>
                  <a:lnTo>
                    <a:pt x="13" y="21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135600" y="3335400"/>
              <a:ext cx="3636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3" y="0"/>
                  </a:moveTo>
                  <a:lnTo>
                    <a:pt x="25" y="10"/>
                  </a:lnTo>
                  <a:lnTo>
                    <a:pt x="13" y="20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80920" y="3973680"/>
              <a:ext cx="3672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2" y="0"/>
                  </a:moveTo>
                  <a:lnTo>
                    <a:pt x="25" y="10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026600" y="4056120"/>
              <a:ext cx="34920" cy="316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2" y="0"/>
                  </a:moveTo>
                  <a:lnTo>
                    <a:pt x="24" y="10"/>
                  </a:lnTo>
                  <a:lnTo>
                    <a:pt x="12" y="20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470480" y="4083120"/>
              <a:ext cx="363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3" y="0"/>
                  </a:moveTo>
                  <a:lnTo>
                    <a:pt x="25" y="10"/>
                  </a:lnTo>
                  <a:lnTo>
                    <a:pt x="13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921560" y="4110120"/>
              <a:ext cx="3672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3" y="0"/>
                  </a:moveTo>
                  <a:lnTo>
                    <a:pt x="25" y="11"/>
                  </a:lnTo>
                  <a:lnTo>
                    <a:pt x="13" y="21"/>
                  </a:lnTo>
                  <a:lnTo>
                    <a:pt x="0" y="1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367240" y="4192560"/>
              <a:ext cx="363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2" y="0"/>
                  </a:moveTo>
                  <a:lnTo>
                    <a:pt x="25" y="11"/>
                  </a:lnTo>
                  <a:lnTo>
                    <a:pt x="12" y="21"/>
                  </a:lnTo>
                  <a:lnTo>
                    <a:pt x="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811120" y="4248000"/>
              <a:ext cx="36360" cy="3348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3" y="0"/>
                  </a:moveTo>
                  <a:lnTo>
                    <a:pt x="25" y="10"/>
                  </a:lnTo>
                  <a:lnTo>
                    <a:pt x="13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256800" y="4303800"/>
              <a:ext cx="3636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3" y="0"/>
                  </a:moveTo>
                  <a:lnTo>
                    <a:pt x="25" y="10"/>
                  </a:lnTo>
                  <a:lnTo>
                    <a:pt x="13" y="20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702120" y="4330800"/>
              <a:ext cx="363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2" y="0"/>
                  </a:moveTo>
                  <a:lnTo>
                    <a:pt x="25" y="10"/>
                  </a:lnTo>
                  <a:lnTo>
                    <a:pt x="12" y="21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146000" y="4330800"/>
              <a:ext cx="363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3" y="0"/>
                  </a:moveTo>
                  <a:lnTo>
                    <a:pt x="25" y="10"/>
                  </a:lnTo>
                  <a:lnTo>
                    <a:pt x="13" y="21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591680" y="4386240"/>
              <a:ext cx="3636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13" y="0"/>
                  </a:moveTo>
                  <a:lnTo>
                    <a:pt x="25" y="10"/>
                  </a:lnTo>
                  <a:lnTo>
                    <a:pt x="13" y="20"/>
                  </a:lnTo>
                  <a:lnTo>
                    <a:pt x="0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050640" y="2344680"/>
              <a:ext cx="378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Média de Uso de Energia de Refrigera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556800" y="2597040"/>
              <a:ext cx="283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no Programa de Selos Tailandê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94920" y="27288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43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40600" y="30099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4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085920" y="31194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42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529800" y="375768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9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975120" y="38401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9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420800" y="38685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94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870440" y="38955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9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316120" y="39783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9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761440" y="40338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8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07120" y="40878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8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651000" y="41162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96320" y="41162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8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541640" y="41702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8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951560" y="52387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951560" y="454500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37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951560" y="385776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951560" y="316404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42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951560" y="2470320"/>
              <a:ext cx="21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2280000">
              <a:off x="2350080" y="5585040"/>
              <a:ext cx="39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an.9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2280000">
              <a:off x="2793960" y="558936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un.9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2280000">
              <a:off x="3238200" y="559224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Dec.9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2280000">
              <a:off x="3684960" y="558936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un.9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2280000">
              <a:off x="4129200" y="559224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Dec.96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2280000">
              <a:off x="4574520" y="558936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un.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2280000">
              <a:off x="5024520" y="559260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Dec.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2280000">
              <a:off x="5470920" y="558972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un.9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2280000">
              <a:off x="5914080" y="559224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Dec.9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2280000">
              <a:off x="6360480" y="558936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un.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2280000">
              <a:off x="6804720" y="559260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Dec.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2280000">
              <a:off x="7250040" y="5585040"/>
              <a:ext cx="39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an.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2280000">
              <a:off x="7695360" y="5589720"/>
              <a:ext cx="40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Jun 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16200000">
              <a:off x="1463400" y="3747240"/>
              <a:ext cx="554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Aft>
                  <a:spcPts val="41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Times New Roman"/>
                </a:rPr>
                <a:t>kWh/an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pull dir="l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7" name=""/>
          <p:cNvGraphicFramePr/>
          <p:nvPr/>
        </p:nvGraphicFramePr>
        <p:xfrm>
          <a:off x="1127160" y="2666880"/>
          <a:ext cx="7664400" cy="32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666880"/>
                    <a:ext cx="76644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Exemplo, Coréia do Sul: MEPS e Selos Efetiv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cciones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 d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l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 se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c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tor público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Programas implementados por agentes 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or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resas Públicas de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di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t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 Programas implementados por comp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ñ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a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idad por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regu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ón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compulsó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 por 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828800"/>
            <a:ext cx="533160" cy="3124080"/>
          </a:xfrm>
          <a:prstGeom prst="downArrow">
            <a:avLst>
              <a:gd name="adj1" fmla="val 50000"/>
              <a:gd name="adj2" fmla="val 14648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Exemplo americano:   Padrões de Eficiência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drões mínimos de eficiência desde 1987; padrões são elevados e revisados regular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lhoria da Eficiência Energética nos mercados de utensílios dos EUA, em princípio, atribuível aos padr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los de Energia parecem terem pequeno impa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nefícios para os padrões decretados em 199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conomizou para cada família US$200 por an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ziu o consumo de energia residencial nos EUA para &gt; de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locará 15.500 MW de capacidade de geração para além do ano de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Exemplo americano:  Sucesso dos Padrões de Eficiência (2)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nefícios de 1990 a 2010 para 9 Produ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da dólar federal estimula $65 em investimentos de eficiência, que contribuem em $160 a $220 de economia líquida para a economia dos E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édia de benefícios/coeficiente de custo =  4: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conomias primárias de energia  =  5 a 6% do uso de energia residencial de 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conomias acumuladas líquidas  =  US$33 to US$49 bilh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ções anuais de emissão de carbono =  9 a 16 milhões toneladas de carbono/ano (de 2000 a 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000000"/>
                </a:solidFill>
                <a:latin typeface="Times New Roman MT Extra Bold"/>
              </a:rPr>
              <a:t>Códigos de Eficiência Energética para Edificações</a:t>
            </a:r>
            <a:endParaRPr b="1" lang="en-US" sz="48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354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s de edificações para prédios residenciais e comerciais são estabelecidos pelos estados, baseados em modelos de códigos de nível federal; checado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13160" indent="-354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cotes prescri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3160" indent="-354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lanilhas comer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3160" indent="-354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acote de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13160" indent="-354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ódigos especiais de edificação para prédios feder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U.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56400" indent="-3549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ódigos de edificações, especialmente residencial, estruturado para uso em reparos e reconstru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Exemplos de Programas para 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dificaciones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pública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UA: combina programas regulatórios e voluntários em instalações federais; redução de metas estabelecidas em algun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ador:  decreto presidencial (2001) ordena 15% de redução de energia em todos os prédios púb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lipinas:  programa federal (2000) exige que todas as agências reduzam o consumo de energia em 10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éxico:  “100 Edificações” (1999) programa voluntário para as instalações do  gov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ailândia:  reduções compulsórias de energia em grande instalações federais desd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 MT Extra Bold"/>
              </a:rPr>
              <a:t>Exemplos de Programas para Prédios e Instalações do Governo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U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combina programas regulatórios e voluntários em instalações federais; redução de metas estabelecidas em alguns cas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Equador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decreto presidencial (2001) ordena 15% de redução de energia em todos os prédios públ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Filipina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:  programa federal (2000) exige que todas as agências reduzam o consumo de energia em 1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México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“100 Edificações” (1999) programa voluntário para as instalações do  gove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ilândia: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reduções compulsórias de energia em grande instalações federais desde 199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Conclusione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erfecciones en el mercado existen y necessitan de intervencion pública para avanzar con la eficiencia energ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cion de mercados de usos finales de energía és un mecanismo interesante y con resultados positivos en muchas partes del mu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ficiencia Energética: mercados regulados y competitivos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101680"/>
          <a:ext cx="783936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01680"/>
                    <a:ext cx="783936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Abordagens Regulat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o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rias x Volunt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a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rias 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ordagens Regul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gência de eficiência energ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Lei de eficiência energ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drões de eficiência energ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ódigos de edificação com eficiência energé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Taxas, tax breaks, subsí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ncargos de benefícios públ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gramas Volu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gramas de descontos ou incen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lassificação e padrões volunt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grama de suporte das melhores prá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monstr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uporte Financ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3200400"/>
            <a:ext cx="7524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GUNAS SON ESTRATÉGIA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TRANSFORMACION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 MERCAD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Ag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ncia de Efici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e</a:t>
            </a: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ncia Energética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artamento de Energia Americ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critórios de Energia do Estado - E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éxico: CON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rasil: ANEEL / PRO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dep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e ou Semi-Indep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réia do Sul: Korea Energy Managemen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ino Unido: Energy Saving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strália, Nova Zelândia: similar ao modelo do Reino U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Índia: Bureau for Energy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éxico: F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 MT Extra Bold"/>
              </a:rPr>
              <a:t>Padr</a:t>
            </a:r>
            <a:r>
              <a:rPr b="1" lang="en-US" sz="4400" spc="-1" strike="noStrike">
                <a:solidFill>
                  <a:srgbClr val="000000"/>
                </a:solidFill>
                <a:latin typeface="Times New Roman MT Extra Bold"/>
              </a:rPr>
              <a:t>ones de eficiencia</a:t>
            </a:r>
            <a:endParaRPr b="1" lang="en-US" sz="4400" spc="-1" strike="noStrike">
              <a:solidFill>
                <a:srgbClr val="000000"/>
              </a:solidFill>
              <a:latin typeface="Times New Roman MT Extra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d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s (Standards)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stardarts d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ficiência energética 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conjuntos de procedi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tos e regu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on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que pres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performance de energi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pro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s manu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urados, proibindo alg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s 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venda de prod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os que 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m menos efi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cia energética q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d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mín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formance energética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édi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Cla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11:15:49Z</dcterms:created>
  <dc:creator>Gilberto De Martino Jannuzzi</dc:creator>
  <dc:description/>
  <dc:language>en-US</dc:language>
  <cp:lastModifiedBy>SEMC300</cp:lastModifiedBy>
  <dcterms:modified xsi:type="dcterms:W3CDTF">2002-10-10T14:11:12Z</dcterms:modified>
  <cp:revision>7</cp:revision>
  <dc:subject/>
  <dc:title>Tópicos</dc:title>
</cp:coreProperties>
</file>